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6.wmf" ContentType="image/x-wmf"/>
  <Override PartName="/ppt/media/image125.wmf" ContentType="image/x-wmf"/>
  <Override PartName="/ppt/media/image124.wmf" ContentType="image/x-wmf"/>
  <Override PartName="/ppt/media/image123.wmf" ContentType="image/x-wmf"/>
  <Override PartName="/ppt/media/image122.wmf" ContentType="image/x-wmf"/>
  <Override PartName="/ppt/media/image121.wmf" ContentType="image/x-wmf"/>
  <Override PartName="/ppt/media/image116.wmf" ContentType="image/x-wmf"/>
  <Override PartName="/ppt/media/image114.wmf" ContentType="image/x-wmf"/>
  <Override PartName="/ppt/media/image113.wmf" ContentType="image/x-wmf"/>
  <Override PartName="/ppt/media/image112.wmf" ContentType="image/x-wmf"/>
  <Override PartName="/ppt/media/image111.wmf" ContentType="image/x-wmf"/>
  <Override PartName="/ppt/media/image106.wmf" ContentType="image/x-wmf"/>
  <Override PartName="/ppt/media/image105.wmf" ContentType="image/x-wmf"/>
  <Override PartName="/ppt/media/image104.wmf" ContentType="image/x-wmf"/>
  <Override PartName="/ppt/media/image103.wmf" ContentType="image/x-wmf"/>
  <Override PartName="/ppt/media/image102.wmf" ContentType="image/x-wmf"/>
  <Override PartName="/ppt/media/image101.wmf" ContentType="image/x-wmf"/>
  <Override PartName="/ppt/media/image3.wmf" ContentType="image/x-wmf"/>
  <Override PartName="/ppt/media/image33.wmf" ContentType="image/x-wmf"/>
  <Override PartName="/ppt/media/image5.wmf" ContentType="image/x-wmf"/>
  <Override PartName="/ppt/media/image35.wmf" ContentType="image/x-wmf"/>
  <Override PartName="/ppt/media/image107.wmf" ContentType="image/x-wmf"/>
  <Override PartName="/ppt/media/image10.wmf" ContentType="image/x-wmf"/>
  <Override PartName="/ppt/media/image6.wmf" ContentType="image/x-wmf"/>
  <Override PartName="/ppt/media/image15.wmf" ContentType="image/x-wmf"/>
  <Override PartName="/ppt/media/image83.wmf" ContentType="image/x-wmf"/>
  <Override PartName="/ppt/media/image18.wmf" ContentType="image/x-wmf"/>
  <Override PartName="/ppt/media/image86.wmf" ContentType="image/x-wmf"/>
  <Override PartName="/ppt/media/image79.png" ContentType="image/png"/>
  <Override PartName="/ppt/media/image36.wmf" ContentType="image/x-wmf"/>
  <Override PartName="/ppt/media/image108.wmf" ContentType="image/x-wmf"/>
  <Override PartName="/ppt/media/image11.wmf" ContentType="image/x-wmf"/>
  <Override PartName="/ppt/media/image7.wmf" ContentType="image/x-wmf"/>
  <Override PartName="/ppt/media/image37.wmf" ContentType="image/x-wmf"/>
  <Override PartName="/ppt/media/image109.wmf" ContentType="image/x-wmf"/>
  <Override PartName="/ppt/media/image80.wmf" ContentType="image/x-wmf"/>
  <Override PartName="/ppt/media/image12.wmf" ContentType="image/x-wmf"/>
  <Override PartName="/ppt/media/image127.wmf" ContentType="image/x-wmf"/>
  <Override PartName="/ppt/media/image30.wmf" ContentType="image/x-wmf"/>
  <Override PartName="/ppt/media/image8.wmf" ContentType="image/x-wmf"/>
  <Override PartName="/ppt/media/image17.wmf" ContentType="image/x-wmf"/>
  <Override PartName="/ppt/media/image85.wmf" ContentType="image/x-wmf"/>
  <Override PartName="/ppt/media/image38.wmf" ContentType="image/x-wmf"/>
  <Override PartName="/ppt/media/image9.wmf" ContentType="image/x-wmf"/>
  <Override PartName="/ppt/media/image31.wmf" ContentType="image/x-wmf"/>
  <Override PartName="/ppt/media/image128.wmf" ContentType="image/x-wmf"/>
  <Override PartName="/ppt/media/image39.wmf" ContentType="image/x-wmf"/>
  <Override PartName="/ppt/media/image40.wmf" ContentType="image/x-wmf"/>
  <Override PartName="/ppt/media/image137.wmf" ContentType="image/x-wmf"/>
  <Override PartName="/ppt/media/image47.wmf" ContentType="image/x-wmf"/>
  <Override PartName="/ppt/media/image133.wmf" ContentType="image/x-wmf"/>
  <Override PartName="/ppt/media/image41.wmf" ContentType="image/x-wmf"/>
  <Override PartName="/ppt/media/image138.wmf" ContentType="image/x-wmf"/>
  <Override PartName="/ppt/media/image48.wmf" ContentType="image/x-wmf"/>
  <Override PartName="/ppt/media/image134.wmf" ContentType="image/x-wmf"/>
  <Override PartName="/ppt/media/image42.wmf" ContentType="image/x-wmf"/>
  <Override PartName="/ppt/media/image139.wmf" ContentType="image/x-wmf"/>
  <Override PartName="/ppt/media/image49.wmf" ContentType="image/x-wmf"/>
  <Override PartName="/ppt/media/image100.wmf" ContentType="image/x-wmf"/>
  <Override PartName="/ppt/media/image135.wmf" ContentType="image/x-wmf"/>
  <Override PartName="/ppt/media/image43.wmf" ContentType="image/x-wmf"/>
  <Override PartName="/ppt/media/image136.wmf" ContentType="image/x-wmf"/>
  <Override PartName="/ppt/media/image132.wmf" ContentType="image/x-wmf"/>
  <Override PartName="/ppt/media/image46.wmf" ContentType="image/x-wmf"/>
  <Override PartName="/ppt/media/image45.wmf" ContentType="image/x-wmf"/>
  <Override PartName="/ppt/media/image131.wmf" ContentType="image/x-wmf"/>
  <Override PartName="/ppt/media/image129.wmf" ContentType="image/x-wmf"/>
  <Override PartName="/ppt/media/image32.wmf" ContentType="image/x-wmf"/>
  <Override PartName="/ppt/media/image143.wmf" ContentType="image/x-wmf"/>
  <Override PartName="/ppt/media/image51.wmf" ContentType="image/x-wmf"/>
  <Override PartName="/ppt/media/image44.wmf" ContentType="image/x-wmf"/>
  <Override PartName="/ppt/media/image130.wmf" ContentType="image/x-wmf"/>
  <Override PartName="/ppt/media/image142.wmf" ContentType="image/x-wmf"/>
  <Override PartName="/ppt/media/image56.wmf" ContentType="image/x-wmf"/>
  <Override PartName="/ppt/media/image141.wmf" ContentType="image/x-wmf"/>
  <Override PartName="/ppt/media/image55.wmf" ContentType="image/x-wmf"/>
  <Override PartName="/ppt/media/image140.wmf" ContentType="image/x-wmf"/>
  <Override PartName="/ppt/media/image1.jpeg" ContentType="image/jpeg"/>
  <Override PartName="/ppt/media/image89.wmf" ContentType="image/x-wmf"/>
  <Override PartName="/ppt/media/image118.png" ContentType="image/png"/>
  <Override PartName="/ppt/media/image54.wmf" ContentType="image/x-wmf"/>
  <Override PartName="/ppt/media/image53.wmf" ContentType="image/x-wmf"/>
  <Override PartName="/ppt/media/image52.wmf" ContentType="image/x-wmf"/>
  <Override PartName="/ppt/media/image94.wmf" ContentType="image/x-wmf"/>
  <Override PartName="/ppt/media/image26.wmf" ContentType="image/x-wmf"/>
  <Override PartName="/ppt/media/image2.wmf" ContentType="image/x-wmf"/>
  <Override PartName="/ppt/media/image82.wmf" ContentType="image/x-wmf"/>
  <Override PartName="/ppt/media/image14.wmf" ContentType="image/x-wmf"/>
  <Override PartName="/ppt/media/image93.wmf" ContentType="image/x-wmf"/>
  <Override PartName="/ppt/media/image25.wmf" ContentType="image/x-wmf"/>
  <Override PartName="/ppt/media/image34.wmf" ContentType="image/x-wmf"/>
  <Override PartName="/ppt/media/image77.png" ContentType="image/png"/>
  <Override PartName="/ppt/media/image144.wmf" ContentType="image/x-wmf"/>
  <Override PartName="/ppt/media/image4.wmf" ContentType="image/x-wmf"/>
  <Override PartName="/ppt/media/image84.wmf" ContentType="image/x-wmf"/>
  <Override PartName="/ppt/media/image16.wmf" ContentType="image/x-wmf"/>
  <Override PartName="/ppt/media/image81.wmf" ContentType="image/x-wmf"/>
  <Override PartName="/ppt/media/image13.wmf" ContentType="image/x-wmf"/>
  <Override PartName="/ppt/media/image50.wmf" ContentType="image/x-wmf"/>
  <Override PartName="/ppt/media/image57.wmf" ContentType="image/x-wmf"/>
  <Override PartName="/ppt/media/image20.wmf" ContentType="image/x-wmf"/>
  <Override PartName="/ppt/media/image117.wmf" ContentType="image/x-wmf"/>
  <Override PartName="/ppt/media/image58.wmf" ContentType="image/x-wmf"/>
  <Override PartName="/ppt/media/image21.wmf" ContentType="image/x-wmf"/>
  <Override PartName="/ppt/media/image59.wmf" ContentType="image/x-wmf"/>
  <Override PartName="/ppt/media/image110.wmf" ContentType="image/x-wmf"/>
  <Override PartName="/ppt/media/image90.wmf" ContentType="image/x-wmf"/>
  <Override PartName="/ppt/media/image22.wmf" ContentType="image/x-wmf"/>
  <Override PartName="/ppt/media/image119.wmf" ContentType="image/x-wmf"/>
  <Override PartName="/ppt/media/image91.wmf" ContentType="image/x-wmf"/>
  <Override PartName="/ppt/media/image23.wmf" ContentType="image/x-wmf"/>
  <Override PartName="/ppt/media/image92.wmf" ContentType="image/x-wmf"/>
  <Override PartName="/ppt/media/image24.wmf" ContentType="image/x-wmf"/>
  <Override PartName="/ppt/media/image60.wmf" ContentType="image/x-wmf"/>
  <Override PartName="/ppt/media/image61.png" ContentType="image/png"/>
  <Override PartName="/ppt/media/image115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69.wmf" ContentType="image/x-wmf"/>
  <Override PartName="/ppt/media/image120.wmf" ContentType="image/x-wmf"/>
  <Override PartName="/ppt/media/image70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78.wmf" ContentType="image/x-wmf"/>
  <Override PartName="/ppt/media/image19.wmf" ContentType="image/x-wmf"/>
  <Override PartName="/ppt/media/image87.wmf" ContentType="image/x-wmf"/>
  <Override PartName="/ppt/media/image88.wmf" ContentType="image/x-wmf"/>
  <Override PartName="/ppt/media/image27.wmf" ContentType="image/x-wmf"/>
  <Override PartName="/ppt/media/image95.wmf" ContentType="image/x-wmf"/>
  <Override PartName="/ppt/media/image28.wmf" ContentType="image/x-wmf"/>
  <Override PartName="/ppt/media/image96.wmf" ContentType="image/x-wmf"/>
  <Override PartName="/ppt/media/image29.wmf" ContentType="image/x-wmf"/>
  <Override PartName="/ppt/media/image97.wmf" ContentType="image/x-wmf"/>
  <Override PartName="/ppt/media/image98.wmf" ContentType="image/x-wmf"/>
  <Override PartName="/ppt/media/image99.wmf" ContentType="image/x-wmf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8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30C77-A894-4FE0-96F1-B5F9436F58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ll students that it helps to write the rule down before procee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ll students that it helps to write the rule down before procee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5F39-B5CC-4D3C-8DDA-A5DF3466A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1263-C553-4439-973D-DE689444C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D7A8-24BE-42DF-BE55-ABD05CB08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D301-DC1D-468E-90C7-50E8A4D71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04DB-BD02-40B1-9E01-DF87F695C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7DE2-86FF-4CFB-94D0-4FE7C2741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BEBB-696F-4238-A8CF-69AB4566D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5DAE-F79D-4712-BD81-A625EB94F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E4C0-E9CA-4145-B3F2-14932C280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192A-39A6-48DE-82D5-55BAB5B15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B911-2381-4ABE-B719-732400B8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7EF2-4C61-45FC-B039-33D91BFEC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5451F-EB21-47E7-A41C-1C1821A349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6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57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58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59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60.wmf"/><Relationship Id="rId2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66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67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68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69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70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71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72.wmf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73.wmf"/><Relationship Id="rId28" Type="http://schemas.openxmlformats.org/officeDocument/2006/relationships/oleObject" Target="../embeddings/oleObject14.bin"/><Relationship Id="rId29" Type="http://schemas.openxmlformats.org/officeDocument/2006/relationships/image" Target="../media/image74.wmf"/><Relationship Id="rId30" Type="http://schemas.openxmlformats.org/officeDocument/2006/relationships/oleObject" Target="../embeddings/oleObject15.bin"/><Relationship Id="rId31" Type="http://schemas.openxmlformats.org/officeDocument/2006/relationships/image" Target="../media/image75.wmf"/><Relationship Id="rId32" Type="http://schemas.openxmlformats.org/officeDocument/2006/relationships/oleObject" Target="../embeddings/oleObject16.bin"/><Relationship Id="rId33" Type="http://schemas.openxmlformats.org/officeDocument/2006/relationships/image" Target="../media/image76.wmf"/><Relationship Id="rId34" Type="http://schemas.openxmlformats.org/officeDocument/2006/relationships/image" Target="../media/image77.png"/><Relationship Id="rId35" Type="http://schemas.openxmlformats.org/officeDocument/2006/relationships/oleObject" Target="../embeddings/oleObject17.bin"/><Relationship Id="rId36" Type="http://schemas.openxmlformats.org/officeDocument/2006/relationships/image" Target="../media/image78.wmf"/><Relationship Id="rId37" Type="http://schemas.openxmlformats.org/officeDocument/2006/relationships/image" Target="../media/image79.png"/><Relationship Id="rId38" Type="http://schemas.openxmlformats.org/officeDocument/2006/relationships/oleObject" Target="../embeddings/oleObject18.bin"/><Relationship Id="rId39" Type="http://schemas.openxmlformats.org/officeDocument/2006/relationships/image" Target="../media/image80.wmf"/><Relationship Id="rId4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8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8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86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87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88.wmf"/><Relationship Id="rId1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92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93.wmf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9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98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99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00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01.wmf"/><Relationship Id="rId1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0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06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07.wmf"/><Relationship Id="rId1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1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12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13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14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15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16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17.wmf"/><Relationship Id="rId2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0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2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2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26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27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28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29.wmf"/><Relationship Id="rId2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1.wmf"/><Relationship Id="rId5" Type="http://schemas.openxmlformats.org/officeDocument/2006/relationships/image" Target="../media/image118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33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34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6.wmf"/><Relationship Id="rId5" Type="http://schemas.openxmlformats.org/officeDocument/2006/relationships/image" Target="../media/image118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38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39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40.wmf"/><Relationship Id="rId1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2.wmf"/><Relationship Id="rId5" Type="http://schemas.openxmlformats.org/officeDocument/2006/relationships/image" Target="../media/image118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4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1.wmf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6.wmf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2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3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24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25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26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27.wmf"/><Relationship Id="rId2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2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3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34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35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36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37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38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39.wmf"/><Relationship Id="rId2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3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4.wmf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7.wm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0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4"/>
          <p:cNvSpPr/>
          <p:nvPr/>
        </p:nvSpPr>
        <p:spPr>
          <a:xfrm>
            <a:off x="628560" y="673200"/>
            <a:ext cx="72010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Times New Roman"/>
              </a:rPr>
              <a:t>Trig Function  Different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0" y="1700280"/>
            <a:ext cx="367344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99"/>
                </a:solidFill>
                <a:latin typeface="Times New Roman"/>
              </a:rPr>
              <a:t>The Derivatives of sin x &amp; cos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Object 2"/>
          <p:cNvGraphicFramePr/>
          <p:nvPr/>
        </p:nvGraphicFramePr>
        <p:xfrm>
          <a:off x="1835280" y="3357720"/>
          <a:ext cx="5827680" cy="814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35280" y="3357720"/>
                    <a:ext cx="5827680" cy="814320"/>
                  </a:xfrm>
                  <a:prstGeom prst="rect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6553080"/>
            <a:ext cx="27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BC491-8FC0-43EB-9F25-02415813CFA2}" type="datetime2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Friday, 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95640" y="0"/>
            <a:ext cx="47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urther calc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2381400" cy="358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Times New Roman"/>
              </a:rPr>
              <a:t>The derivative of sin </a:t>
            </a:r>
            <a:r>
              <a:rPr b="1" i="1" lang="en-US" sz="1800" spc="-1" strike="noStrike">
                <a:solidFill>
                  <a:srgbClr val="cc3399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767640" y="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3   Outco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4"/>
          <p:cNvSpPr/>
          <p:nvPr/>
        </p:nvSpPr>
        <p:spPr>
          <a:xfrm>
            <a:off x="861840" y="1438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Object 2"/>
          <p:cNvGraphicFramePr/>
          <p:nvPr/>
        </p:nvGraphicFramePr>
        <p:xfrm>
          <a:off x="2178000" y="1893960"/>
          <a:ext cx="3849840" cy="117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5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78000" y="1893960"/>
                    <a:ext cx="3849840" cy="117144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96" name="Object 3"/>
          <p:cNvGraphicFramePr/>
          <p:nvPr/>
        </p:nvGraphicFramePr>
        <p:xfrm>
          <a:off x="2316240" y="3498840"/>
          <a:ext cx="2311200" cy="685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7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316240" y="3498840"/>
                    <a:ext cx="2311200" cy="68580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98" name="Object 4"/>
          <p:cNvGraphicFramePr/>
          <p:nvPr/>
        </p:nvGraphicFramePr>
        <p:xfrm>
          <a:off x="1089000" y="3689280"/>
          <a:ext cx="952560" cy="304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99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89000" y="3689280"/>
                    <a:ext cx="952560" cy="30492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0" name="Object 5"/>
          <p:cNvGraphicFramePr/>
          <p:nvPr/>
        </p:nvGraphicFramePr>
        <p:xfrm>
          <a:off x="4903920" y="3625920"/>
          <a:ext cx="1600200" cy="431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01" name="Object 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903920" y="3625920"/>
                    <a:ext cx="1600200" cy="43164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02" name="Text Box 9"/>
          <p:cNvSpPr/>
          <p:nvPr/>
        </p:nvSpPr>
        <p:spPr>
          <a:xfrm>
            <a:off x="4933800" y="3157560"/>
            <a:ext cx="15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Re-ar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Object 6"/>
          <p:cNvGraphicFramePr/>
          <p:nvPr/>
        </p:nvGraphicFramePr>
        <p:xfrm>
          <a:off x="6778800" y="3537000"/>
          <a:ext cx="1955520" cy="6094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04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778800" y="3537000"/>
                    <a:ext cx="1955520" cy="60948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05" name="Text Box 11"/>
          <p:cNvSpPr/>
          <p:nvPr/>
        </p:nvSpPr>
        <p:spPr>
          <a:xfrm>
            <a:off x="6653160" y="2811600"/>
            <a:ext cx="217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Apply the     standard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Object 7"/>
          <p:cNvGraphicFramePr/>
          <p:nvPr/>
        </p:nvGraphicFramePr>
        <p:xfrm>
          <a:off x="1042920" y="4422600"/>
          <a:ext cx="2374920" cy="10162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07" name="Object 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042920" y="4422600"/>
                    <a:ext cx="2374920" cy="101628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8" name="Object 8"/>
          <p:cNvGraphicFramePr/>
          <p:nvPr/>
        </p:nvGraphicFramePr>
        <p:xfrm>
          <a:off x="3605040" y="4587840"/>
          <a:ext cx="2019600" cy="6858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09" name="Object 8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605040" y="4587840"/>
                    <a:ext cx="2019600" cy="68580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10" name="Object 9"/>
          <p:cNvGraphicFramePr/>
          <p:nvPr/>
        </p:nvGraphicFramePr>
        <p:xfrm>
          <a:off x="5748480" y="4562640"/>
          <a:ext cx="3301920" cy="7365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11" name="Object 9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748480" y="4562640"/>
                    <a:ext cx="3301920" cy="73656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12" name="Object 10"/>
          <p:cNvGraphicFramePr/>
          <p:nvPr/>
        </p:nvGraphicFramePr>
        <p:xfrm>
          <a:off x="5794200" y="5510160"/>
          <a:ext cx="1854360" cy="6094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13" name="Object 10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794200" y="5510160"/>
                    <a:ext cx="1854360" cy="60948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14" name="Object 11"/>
          <p:cNvGraphicFramePr/>
          <p:nvPr/>
        </p:nvGraphicFramePr>
        <p:xfrm>
          <a:off x="2671920" y="5732640"/>
          <a:ext cx="2552400" cy="86328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215" name="Object 11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2671920" y="5732640"/>
                    <a:ext cx="2552400" cy="863280"/>
                  </a:xfrm>
                  <a:prstGeom prst="rect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16" name="Text Box 4"/>
          <p:cNvSpPr/>
          <p:nvPr/>
        </p:nvSpPr>
        <p:spPr>
          <a:xfrm>
            <a:off x="0" y="476280"/>
            <a:ext cx="577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Integrating Trig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4"/>
          <p:cNvSpPr/>
          <p:nvPr/>
        </p:nvSpPr>
        <p:spPr>
          <a:xfrm>
            <a:off x="1133640" y="171360"/>
            <a:ext cx="3981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ntegrating           Trig  Functions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(Are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861840" y="1433520"/>
            <a:ext cx="21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16"/>
          <p:cNvGrpSpPr/>
          <p:nvPr/>
        </p:nvGrpSpPr>
        <p:grpSpPr>
          <a:xfrm>
            <a:off x="5195880" y="171360"/>
            <a:ext cx="3719520" cy="2971800"/>
            <a:chOff x="5195880" y="171360"/>
            <a:chExt cx="3719520" cy="2971800"/>
          </a:xfrm>
        </p:grpSpPr>
        <p:graphicFrame>
          <p:nvGraphicFramePr>
            <p:cNvPr id="221" name="Object 7"/>
            <p:cNvGraphicFramePr/>
            <p:nvPr/>
          </p:nvGraphicFramePr>
          <p:xfrm>
            <a:off x="5205240" y="171360"/>
            <a:ext cx="3710160" cy="29718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22" name="Object 7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205240" y="171360"/>
                      <a:ext cx="3710160" cy="2971800"/>
                    </a:xfrm>
                    <a:prstGeom prst="rect">
                      <a:avLst/>
                    </a:prstGeom>
                    <a:ln w="76320">
                      <a:solidFill>
                        <a:srgbClr val="80808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223" name="Object 8"/>
            <p:cNvGraphicFramePr/>
            <p:nvPr/>
          </p:nvGraphicFramePr>
          <p:xfrm>
            <a:off x="7885080" y="291960"/>
            <a:ext cx="939600" cy="2412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24" name="Object 8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885080" y="291960"/>
                      <a:ext cx="939600" cy="24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5" name="Object 9"/>
            <p:cNvGraphicFramePr/>
            <p:nvPr/>
          </p:nvGraphicFramePr>
          <p:xfrm>
            <a:off x="6653160" y="261720"/>
            <a:ext cx="1066680" cy="3049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26" name="Object 9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653160" y="261720"/>
                      <a:ext cx="1066680" cy="30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7" name="Object 10"/>
            <p:cNvGraphicFramePr/>
            <p:nvPr/>
          </p:nvGraphicFramePr>
          <p:xfrm>
            <a:off x="6721560" y="1518840"/>
            <a:ext cx="203040" cy="1908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228" name="Object 10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6721560" y="1518840"/>
                      <a:ext cx="203040" cy="19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9" name="Object 11"/>
            <p:cNvGraphicFramePr/>
            <p:nvPr/>
          </p:nvGraphicFramePr>
          <p:xfrm>
            <a:off x="5452920" y="261720"/>
            <a:ext cx="114480" cy="2286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230" name="Object 11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5452920" y="261720"/>
                      <a:ext cx="114480" cy="22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1" name="Object 12"/>
            <p:cNvGraphicFramePr/>
            <p:nvPr/>
          </p:nvGraphicFramePr>
          <p:xfrm>
            <a:off x="8643960" y="1800000"/>
            <a:ext cx="177840" cy="19044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232" name="Object 12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8643960" y="1800000"/>
                      <a:ext cx="17784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3" name="Object 13"/>
            <p:cNvGraphicFramePr/>
            <p:nvPr/>
          </p:nvGraphicFramePr>
          <p:xfrm>
            <a:off x="5195880" y="201240"/>
            <a:ext cx="190440" cy="24156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234" name="Object 13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5195880" y="201240"/>
                      <a:ext cx="190440" cy="241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5" name="Object 14"/>
            <p:cNvGraphicFramePr/>
            <p:nvPr/>
          </p:nvGraphicFramePr>
          <p:xfrm>
            <a:off x="5456160" y="2885760"/>
            <a:ext cx="291960" cy="22860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236" name="Object 14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5456160" y="2885760"/>
                      <a:ext cx="291960" cy="22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7" name="Object 15"/>
            <p:cNvGraphicFramePr/>
            <p:nvPr/>
          </p:nvGraphicFramePr>
          <p:xfrm>
            <a:off x="5221080" y="1628640"/>
            <a:ext cx="165240" cy="241200"/>
          </p:xfrm>
          <a:graphic>
            <a:graphicData uri="http://schemas.openxmlformats.org/presentationml/2006/ole">
              <p:oleObj r:id="rId18" spid="">
                <p:embed/>
                <p:pic>
                  <p:nvPicPr>
                    <p:cNvPr id="238" name="Object 15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5221080" y="1628640"/>
                      <a:ext cx="165240" cy="24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9" name="Text Box 15"/>
            <p:cNvSpPr/>
            <p:nvPr/>
          </p:nvSpPr>
          <p:spPr>
            <a:xfrm>
              <a:off x="6335640" y="2152440"/>
              <a:ext cx="40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Text Box 17"/>
          <p:cNvSpPr/>
          <p:nvPr/>
        </p:nvSpPr>
        <p:spPr>
          <a:xfrm>
            <a:off x="861840" y="1890720"/>
            <a:ext cx="425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00"/>
                </a:solidFill>
                <a:latin typeface="Comic Sans MS"/>
              </a:rPr>
              <a:t>The diagram shows the graphs of  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y = -sin x and y = cos 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8"/>
          <p:cNvSpPr/>
          <p:nvPr/>
        </p:nvSpPr>
        <p:spPr>
          <a:xfrm>
            <a:off x="952560" y="2762280"/>
            <a:ext cx="416232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ffff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Comic Sans MS"/>
              </a:rPr>
              <a:t>Find the coordinates of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ffff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Comic Sans MS"/>
              </a:rPr>
              <a:t>Hence find the shaded are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Object 2"/>
          <p:cNvGraphicFramePr/>
          <p:nvPr/>
        </p:nvGraphicFramePr>
        <p:xfrm>
          <a:off x="1042920" y="3835440"/>
          <a:ext cx="6153120" cy="31752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243" name="Object 2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1042920" y="3835440"/>
                    <a:ext cx="6153120" cy="31752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44" name="Object 3"/>
          <p:cNvGraphicFramePr/>
          <p:nvPr/>
        </p:nvGraphicFramePr>
        <p:xfrm>
          <a:off x="2773440" y="4343400"/>
          <a:ext cx="2171520" cy="36180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245" name="Object 3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2773440" y="4343400"/>
                    <a:ext cx="2171520" cy="36180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46" name="Object 4"/>
          <p:cNvGraphicFramePr/>
          <p:nvPr/>
        </p:nvGraphicFramePr>
        <p:xfrm>
          <a:off x="2139840" y="5695920"/>
          <a:ext cx="2805120" cy="30168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247" name="Object 4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2139840" y="5695920"/>
                    <a:ext cx="2805120" cy="30168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48" name="Object 6"/>
          <p:cNvGraphicFramePr/>
          <p:nvPr/>
        </p:nvGraphicFramePr>
        <p:xfrm>
          <a:off x="1495440" y="5033880"/>
          <a:ext cx="1765440" cy="34308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249" name="Object 6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1495440" y="5033880"/>
                    <a:ext cx="1765440" cy="34308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50" name="Group 23"/>
          <p:cNvGrpSpPr/>
          <p:nvPr/>
        </p:nvGrpSpPr>
        <p:grpSpPr>
          <a:xfrm>
            <a:off x="5943600" y="3368520"/>
            <a:ext cx="3061800" cy="3317760"/>
            <a:chOff x="5943600" y="3368520"/>
            <a:chExt cx="3061800" cy="3317760"/>
          </a:xfrm>
        </p:grpSpPr>
        <p:sp>
          <p:nvSpPr>
            <p:cNvPr id="251" name="AutoShape 10"/>
            <p:cNvSpPr/>
            <p:nvPr/>
          </p:nvSpPr>
          <p:spPr>
            <a:xfrm>
              <a:off x="7034760" y="4363920"/>
              <a:ext cx="1445760" cy="1352160"/>
            </a:xfrm>
            <a:prstGeom prst="flowChartOr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 Box 11"/>
            <p:cNvSpPr/>
            <p:nvPr/>
          </p:nvSpPr>
          <p:spPr>
            <a:xfrm>
              <a:off x="7858800" y="5106960"/>
              <a:ext cx="44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 Box 12"/>
            <p:cNvSpPr/>
            <p:nvPr/>
          </p:nvSpPr>
          <p:spPr>
            <a:xfrm>
              <a:off x="7854480" y="4584960"/>
              <a:ext cx="44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13"/>
            <p:cNvSpPr/>
            <p:nvPr/>
          </p:nvSpPr>
          <p:spPr>
            <a:xfrm>
              <a:off x="7255800" y="4592520"/>
              <a:ext cx="44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14"/>
            <p:cNvSpPr/>
            <p:nvPr/>
          </p:nvSpPr>
          <p:spPr>
            <a:xfrm>
              <a:off x="7255800" y="5116320"/>
              <a:ext cx="44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15"/>
            <p:cNvSpPr/>
            <p:nvPr/>
          </p:nvSpPr>
          <p:spPr>
            <a:xfrm>
              <a:off x="8439120" y="4849920"/>
              <a:ext cx="56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r>
                <a:rPr b="1" i="1" lang="en-US" sz="2400" spc="-1" strike="noStrike" baseline="40000">
                  <a:solidFill>
                    <a:srgbClr val="ffff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16"/>
            <p:cNvSpPr/>
            <p:nvPr/>
          </p:nvSpPr>
          <p:spPr>
            <a:xfrm>
              <a:off x="6293160" y="4773240"/>
              <a:ext cx="83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Comic Sans MS"/>
                </a:rPr>
                <a:t>180</a:t>
              </a:r>
              <a:r>
                <a:rPr b="1" i="1" lang="en-US" sz="2400" spc="-1" strike="noStrike" baseline="40000">
                  <a:solidFill>
                    <a:srgbClr val="ffff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17"/>
            <p:cNvSpPr/>
            <p:nvPr/>
          </p:nvSpPr>
          <p:spPr>
            <a:xfrm>
              <a:off x="7343280" y="5716440"/>
              <a:ext cx="89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Comic Sans MS"/>
                </a:rPr>
                <a:t>270</a:t>
              </a:r>
              <a:r>
                <a:rPr b="1" i="1" lang="en-US" sz="2400" spc="-1" strike="noStrike" baseline="40000">
                  <a:solidFill>
                    <a:srgbClr val="ffff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18"/>
            <p:cNvSpPr/>
            <p:nvPr/>
          </p:nvSpPr>
          <p:spPr>
            <a:xfrm>
              <a:off x="7430760" y="3930840"/>
              <a:ext cx="70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Comic Sans MS"/>
                </a:rPr>
                <a:t>90</a:t>
              </a:r>
              <a:r>
                <a:rPr b="1" i="1" lang="en-US" sz="2400" spc="-1" strike="noStrike" baseline="40000">
                  <a:solidFill>
                    <a:srgbClr val="ffff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60" name="Object 9"/>
            <p:cNvGraphicFramePr/>
            <p:nvPr/>
          </p:nvGraphicFramePr>
          <p:xfrm>
            <a:off x="7636680" y="6145200"/>
            <a:ext cx="318960" cy="541080"/>
          </p:xfrm>
          <a:graphic>
            <a:graphicData uri="http://schemas.openxmlformats.org/presentationml/2006/ole">
              <p:oleObj r:id="rId28" spid="">
                <p:embed/>
                <p:pic>
                  <p:nvPicPr>
                    <p:cNvPr id="261" name="Object 9" descr=""/>
                    <p:cNvPicPr/>
                    <p:nvPr/>
                  </p:nvPicPr>
                  <p:blipFill>
                    <a:blip r:embed="rId29"/>
                    <a:stretch/>
                  </p:blipFill>
                  <p:spPr>
                    <a:xfrm>
                      <a:off x="7636680" y="6145200"/>
                      <a:ext cx="318960" cy="541080"/>
                    </a:xfrm>
                    <a:prstGeom prst="rect">
                      <a:avLst/>
                    </a:prstGeom>
                    <a:ln w="28440">
                      <a:solidFill>
                        <a:srgbClr val="80808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262" name="Object 10"/>
            <p:cNvGraphicFramePr/>
            <p:nvPr/>
          </p:nvGraphicFramePr>
          <p:xfrm>
            <a:off x="7693200" y="3368520"/>
            <a:ext cx="208800" cy="541080"/>
          </p:xfrm>
          <a:graphic>
            <a:graphicData uri="http://schemas.openxmlformats.org/presentationml/2006/ole">
              <p:oleObj r:id="rId30" spid="">
                <p:embed/>
                <p:pic>
                  <p:nvPicPr>
                    <p:cNvPr id="263" name="Object 10" descr=""/>
                    <p:cNvPicPr/>
                    <p:nvPr/>
                  </p:nvPicPr>
                  <p:blipFill>
                    <a:blip r:embed="rId31"/>
                    <a:stretch/>
                  </p:blipFill>
                  <p:spPr>
                    <a:xfrm>
                      <a:off x="7693200" y="3368520"/>
                      <a:ext cx="208800" cy="541080"/>
                    </a:xfrm>
                    <a:prstGeom prst="rect">
                      <a:avLst/>
                    </a:prstGeom>
                    <a:ln w="28440">
                      <a:solidFill>
                        <a:srgbClr val="80808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264" name="Object 6"/>
            <p:cNvGraphicFramePr/>
            <p:nvPr/>
          </p:nvGraphicFramePr>
          <p:xfrm>
            <a:off x="5943600" y="4858920"/>
            <a:ext cx="354240" cy="324720"/>
          </p:xfrm>
          <a:graphic>
            <a:graphicData uri="http://schemas.openxmlformats.org/presentationml/2006/ole">
              <p:oleObj r:id="rId32" spid="">
                <p:embed/>
                <p:pic>
                  <p:nvPicPr>
                    <p:cNvPr id="265" name="Object 6" descr=""/>
                    <p:cNvPicPr/>
                    <p:nvPr/>
                  </p:nvPicPr>
                  <p:blipFill>
                    <a:blip r:embed="rId33"/>
                    <a:stretch/>
                  </p:blipFill>
                  <p:spPr>
                    <a:xfrm>
                      <a:off x="5943600" y="4858920"/>
                      <a:ext cx="354240" cy="324720"/>
                    </a:xfrm>
                    <a:prstGeom prst="rect">
                      <a:avLst/>
                    </a:prstGeom>
                    <a:ln w="28440">
                      <a:solidFill>
                        <a:srgbClr val="80808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pic>
        <p:nvPicPr>
          <p:cNvPr id="266" name="Picture 40" descr="TICK.jpg"/>
          <p:cNvPicPr/>
          <p:nvPr/>
        </p:nvPicPr>
        <p:blipFill>
          <a:blip r:embed="rId34"/>
          <a:stretch/>
        </p:blipFill>
        <p:spPr>
          <a:xfrm>
            <a:off x="6918480" y="4054320"/>
            <a:ext cx="877680" cy="88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7" name="Object 6"/>
          <p:cNvGraphicFramePr/>
          <p:nvPr/>
        </p:nvGraphicFramePr>
        <p:xfrm>
          <a:off x="3395520" y="4896000"/>
          <a:ext cx="1549440" cy="60948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68" name="Object 6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3395520" y="4896000"/>
                    <a:ext cx="1549440" cy="60948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269" name="Picture 42" descr="TICK.jpg"/>
          <p:cNvPicPr/>
          <p:nvPr/>
        </p:nvPicPr>
        <p:blipFill>
          <a:blip r:embed="rId37"/>
          <a:stretch/>
        </p:blipFill>
        <p:spPr>
          <a:xfrm>
            <a:off x="7912080" y="4962600"/>
            <a:ext cx="884160" cy="877680"/>
          </a:xfrm>
          <a:prstGeom prst="rect">
            <a:avLst/>
          </a:prstGeom>
          <a:ln w="0">
            <a:noFill/>
          </a:ln>
        </p:spPr>
      </p:pic>
      <p:sp>
        <p:nvSpPr>
          <p:cNvPr id="270" name="Straight Connector 44"/>
          <p:cNvSpPr/>
          <p:nvPr/>
        </p:nvSpPr>
        <p:spPr>
          <a:xfrm>
            <a:off x="4390920" y="4786200"/>
            <a:ext cx="542880" cy="723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traight Connector 46"/>
          <p:cNvSpPr/>
          <p:nvPr/>
        </p:nvSpPr>
        <p:spPr>
          <a:xfrm flipH="1">
            <a:off x="4390920" y="4786200"/>
            <a:ext cx="633600" cy="723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Object 6"/>
          <p:cNvGraphicFramePr/>
          <p:nvPr/>
        </p:nvGraphicFramePr>
        <p:xfrm>
          <a:off x="4132440" y="6188040"/>
          <a:ext cx="812520" cy="609480"/>
        </p:xfrm>
        <a:graphic>
          <a:graphicData uri="http://schemas.openxmlformats.org/presentationml/2006/ole">
            <p:oleObj r:id="rId38" spid="">
              <p:embed/>
              <p:pic>
                <p:nvPicPr>
                  <p:cNvPr id="273" name="Object 6" descr=""/>
                  <p:cNvPicPr/>
                  <p:nvPr/>
                </p:nvPicPr>
                <p:blipFill>
                  <a:blip r:embed="rId39"/>
                  <a:stretch/>
                </p:blipFill>
                <p:spPr>
                  <a:xfrm>
                    <a:off x="4132440" y="6188040"/>
                    <a:ext cx="812520" cy="60948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4"/>
          <p:cNvSpPr/>
          <p:nvPr/>
        </p:nvSpPr>
        <p:spPr>
          <a:xfrm>
            <a:off x="0" y="476280"/>
            <a:ext cx="60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Integrating Trig  Functions (Are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Object 13"/>
          <p:cNvGraphicFramePr/>
          <p:nvPr/>
        </p:nvGraphicFramePr>
        <p:xfrm>
          <a:off x="1177920" y="2130480"/>
          <a:ext cx="7647120" cy="484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7" name="Object 1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77920" y="2130480"/>
                    <a:ext cx="7647120" cy="484200"/>
                  </a:xfrm>
                  <a:prstGeom prst="rect">
                    <a:avLst/>
                  </a:prstGeom>
                  <a:ln w="5724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78" name="Object 2"/>
          <p:cNvGraphicFramePr/>
          <p:nvPr/>
        </p:nvGraphicFramePr>
        <p:xfrm>
          <a:off x="1177920" y="3244680"/>
          <a:ext cx="3619440" cy="927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9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177920" y="3244680"/>
                    <a:ext cx="3619440" cy="92736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80" name="Object 3"/>
          <p:cNvGraphicFramePr/>
          <p:nvPr/>
        </p:nvGraphicFramePr>
        <p:xfrm>
          <a:off x="5359320" y="3244680"/>
          <a:ext cx="2108160" cy="927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81" name="Object 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59320" y="3244680"/>
                    <a:ext cx="2108160" cy="92736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82" name="Object 4"/>
          <p:cNvGraphicFramePr/>
          <p:nvPr/>
        </p:nvGraphicFramePr>
        <p:xfrm>
          <a:off x="1177920" y="4599000"/>
          <a:ext cx="952560" cy="304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83" name="Object 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77920" y="4599000"/>
                    <a:ext cx="952560" cy="30492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84" name="Object 5"/>
          <p:cNvGraphicFramePr/>
          <p:nvPr/>
        </p:nvGraphicFramePr>
        <p:xfrm>
          <a:off x="2389320" y="4535640"/>
          <a:ext cx="2273040" cy="431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85" name="Object 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389320" y="4535640"/>
                    <a:ext cx="2273040" cy="43164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86" name="Object 6"/>
          <p:cNvGraphicFramePr/>
          <p:nvPr/>
        </p:nvGraphicFramePr>
        <p:xfrm>
          <a:off x="4815000" y="4567320"/>
          <a:ext cx="2547720" cy="3682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87" name="Object 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815000" y="4567320"/>
                    <a:ext cx="2547720" cy="36828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88" name="Object 7"/>
          <p:cNvGraphicFramePr/>
          <p:nvPr/>
        </p:nvGraphicFramePr>
        <p:xfrm>
          <a:off x="1177920" y="5307120"/>
          <a:ext cx="3276720" cy="9270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89" name="Object 7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177920" y="5307120"/>
                    <a:ext cx="3276720" cy="92700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90" name="Object 8"/>
          <p:cNvGraphicFramePr/>
          <p:nvPr/>
        </p:nvGraphicFramePr>
        <p:xfrm>
          <a:off x="4871880" y="5427720"/>
          <a:ext cx="1702080" cy="6858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91" name="Object 8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871880" y="5427720"/>
                    <a:ext cx="1702080" cy="68580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4"/>
          <p:cNvSpPr/>
          <p:nvPr/>
        </p:nvSpPr>
        <p:spPr>
          <a:xfrm>
            <a:off x="0" y="0"/>
            <a:ext cx="60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Integrating Trig  Functions (Are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Object 8"/>
          <p:cNvGraphicFramePr/>
          <p:nvPr/>
        </p:nvGraphicFramePr>
        <p:xfrm>
          <a:off x="1503360" y="2162160"/>
          <a:ext cx="1701720" cy="685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5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03360" y="2162160"/>
                    <a:ext cx="1701720" cy="68580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96" name="Object 9"/>
          <p:cNvGraphicFramePr/>
          <p:nvPr/>
        </p:nvGraphicFramePr>
        <p:xfrm>
          <a:off x="1503360" y="3105000"/>
          <a:ext cx="4114800" cy="685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97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03360" y="3105000"/>
                    <a:ext cx="4114800" cy="68580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98" name="Object 10"/>
          <p:cNvGraphicFramePr/>
          <p:nvPr/>
        </p:nvGraphicFramePr>
        <p:xfrm>
          <a:off x="5845320" y="3105000"/>
          <a:ext cx="2692080" cy="685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99" name="Object 1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845320" y="3105000"/>
                    <a:ext cx="2692080" cy="68580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00" name="Object 11"/>
          <p:cNvGraphicFramePr/>
          <p:nvPr/>
        </p:nvGraphicFramePr>
        <p:xfrm>
          <a:off x="1503360" y="4075200"/>
          <a:ext cx="1981080" cy="711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01" name="Object 1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503360" y="4075200"/>
                    <a:ext cx="1981080" cy="71100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02" name="Object 12"/>
          <p:cNvGraphicFramePr/>
          <p:nvPr/>
        </p:nvGraphicFramePr>
        <p:xfrm>
          <a:off x="1503360" y="5084640"/>
          <a:ext cx="2340000" cy="4874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03" name="Object 1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503360" y="5084640"/>
                    <a:ext cx="2340000" cy="487440"/>
                  </a:xfrm>
                  <a:prstGeom prst="rect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5"/>
          <p:cNvSpPr/>
          <p:nvPr/>
        </p:nvSpPr>
        <p:spPr>
          <a:xfrm>
            <a:off x="861840" y="14335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6" name="Object 2"/>
          <p:cNvGraphicFramePr/>
          <p:nvPr/>
        </p:nvGraphicFramePr>
        <p:xfrm>
          <a:off x="973080" y="2055960"/>
          <a:ext cx="7761240" cy="34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7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3080" y="2055960"/>
                    <a:ext cx="7761240" cy="34272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08" name="Object 3"/>
          <p:cNvGraphicFramePr/>
          <p:nvPr/>
        </p:nvGraphicFramePr>
        <p:xfrm>
          <a:off x="982800" y="2544840"/>
          <a:ext cx="2628720" cy="431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9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82800" y="2544840"/>
                    <a:ext cx="2628720" cy="43164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10" name="Object 4"/>
          <p:cNvGraphicFramePr/>
          <p:nvPr/>
        </p:nvGraphicFramePr>
        <p:xfrm>
          <a:off x="961920" y="3336840"/>
          <a:ext cx="4876920" cy="363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11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61920" y="3336840"/>
                    <a:ext cx="4876920" cy="36360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12" name="Object 5"/>
          <p:cNvGraphicFramePr/>
          <p:nvPr/>
        </p:nvGraphicFramePr>
        <p:xfrm>
          <a:off x="2490840" y="4062240"/>
          <a:ext cx="458460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13" name="Object 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490840" y="4062240"/>
                    <a:ext cx="4584600" cy="34308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14" name="Object 6"/>
          <p:cNvGraphicFramePr/>
          <p:nvPr/>
        </p:nvGraphicFramePr>
        <p:xfrm>
          <a:off x="2490840" y="4610160"/>
          <a:ext cx="4038480" cy="3427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15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490840" y="4610160"/>
                    <a:ext cx="4038480" cy="34272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16" name="Object 7"/>
          <p:cNvGraphicFramePr/>
          <p:nvPr/>
        </p:nvGraphicFramePr>
        <p:xfrm>
          <a:off x="2490840" y="5157720"/>
          <a:ext cx="2425680" cy="2923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17" name="Object 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490840" y="5157720"/>
                    <a:ext cx="2425680" cy="29232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18" name="Object 8"/>
          <p:cNvGraphicFramePr/>
          <p:nvPr/>
        </p:nvGraphicFramePr>
        <p:xfrm>
          <a:off x="2490840" y="5654520"/>
          <a:ext cx="3060720" cy="4320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19" name="Object 8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490840" y="5654520"/>
                    <a:ext cx="3060720" cy="43200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20" name="Object 9"/>
          <p:cNvGraphicFramePr/>
          <p:nvPr/>
        </p:nvGraphicFramePr>
        <p:xfrm>
          <a:off x="2490840" y="6291360"/>
          <a:ext cx="3678120" cy="3952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21" name="Object 9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490840" y="6291360"/>
                    <a:ext cx="3678120" cy="395280"/>
                  </a:xfrm>
                  <a:prstGeom prst="rect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22" name="Text Box 4"/>
          <p:cNvSpPr/>
          <p:nvPr/>
        </p:nvSpPr>
        <p:spPr>
          <a:xfrm>
            <a:off x="1133640" y="623880"/>
            <a:ext cx="606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ntegrating Trig 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Cloud 17"/>
          <p:cNvSpPr/>
          <p:nvPr/>
        </p:nvSpPr>
        <p:spPr>
          <a:xfrm>
            <a:off x="5929200" y="2343240"/>
            <a:ext cx="2853000" cy="1266480"/>
          </a:xfrm>
          <a:prstGeom prst="pie">
            <a:avLst/>
          </a:prstGeom>
          <a:solidFill>
            <a:srgbClr val="4d4d4d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Remember cos(x + y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8" dur="8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9" dur="8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" dur="8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5" name="Object 2"/>
          <p:cNvGraphicFramePr/>
          <p:nvPr/>
        </p:nvGraphicFramePr>
        <p:xfrm>
          <a:off x="1130400" y="2071800"/>
          <a:ext cx="5964120" cy="36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6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30400" y="2071800"/>
                    <a:ext cx="5964120" cy="36180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27" name="Object 3"/>
          <p:cNvGraphicFramePr/>
          <p:nvPr/>
        </p:nvGraphicFramePr>
        <p:xfrm>
          <a:off x="1224000" y="2913120"/>
          <a:ext cx="3454200" cy="609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28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24000" y="2913120"/>
                    <a:ext cx="3454200" cy="60948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29" name="Object 4"/>
          <p:cNvGraphicFramePr/>
          <p:nvPr/>
        </p:nvGraphicFramePr>
        <p:xfrm>
          <a:off x="1224000" y="3857760"/>
          <a:ext cx="4051440" cy="609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30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224000" y="3857760"/>
                    <a:ext cx="4051440" cy="60948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31" name="Object 5"/>
          <p:cNvGraphicFramePr/>
          <p:nvPr/>
        </p:nvGraphicFramePr>
        <p:xfrm>
          <a:off x="5573880" y="3857760"/>
          <a:ext cx="2527200" cy="609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32" name="Object 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573880" y="3857760"/>
                    <a:ext cx="2527200" cy="60948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33" name="Object 6"/>
          <p:cNvGraphicFramePr/>
          <p:nvPr/>
        </p:nvGraphicFramePr>
        <p:xfrm>
          <a:off x="1217520" y="4734000"/>
          <a:ext cx="5346720" cy="6858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34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217520" y="4734000"/>
                    <a:ext cx="5346720" cy="68580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35" name="Object 7"/>
          <p:cNvGraphicFramePr/>
          <p:nvPr/>
        </p:nvGraphicFramePr>
        <p:xfrm>
          <a:off x="2658960" y="5805360"/>
          <a:ext cx="3759480" cy="6098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36" name="Object 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658960" y="5805360"/>
                    <a:ext cx="3759480" cy="60984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37" name="Text Box 4"/>
          <p:cNvSpPr/>
          <p:nvPr/>
        </p:nvSpPr>
        <p:spPr>
          <a:xfrm>
            <a:off x="0" y="0"/>
            <a:ext cx="60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Integrating Trig 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9" name="Text Box 4"/>
          <p:cNvSpPr/>
          <p:nvPr/>
        </p:nvSpPr>
        <p:spPr>
          <a:xfrm>
            <a:off x="896760" y="1438200"/>
            <a:ext cx="21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Examp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0" name="Object 2"/>
          <p:cNvGraphicFramePr/>
          <p:nvPr/>
        </p:nvGraphicFramePr>
        <p:xfrm>
          <a:off x="1455840" y="2013120"/>
          <a:ext cx="6554520" cy="51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1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55840" y="2013120"/>
                    <a:ext cx="6554520" cy="51084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42" name="Object 3"/>
          <p:cNvGraphicFramePr/>
          <p:nvPr/>
        </p:nvGraphicFramePr>
        <p:xfrm>
          <a:off x="2249640" y="3427560"/>
          <a:ext cx="2412720" cy="457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43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49640" y="3427560"/>
                    <a:ext cx="2412720" cy="45720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44" name="Text Box 7"/>
          <p:cNvSpPr/>
          <p:nvPr/>
        </p:nvSpPr>
        <p:spPr>
          <a:xfrm>
            <a:off x="4632480" y="2643120"/>
            <a:ext cx="43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Use the “reverse” chain r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5" name="Object 4"/>
          <p:cNvGraphicFramePr/>
          <p:nvPr/>
        </p:nvGraphicFramePr>
        <p:xfrm>
          <a:off x="4830840" y="3255840"/>
          <a:ext cx="2324160" cy="800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46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830840" y="3255840"/>
                    <a:ext cx="2324160" cy="80028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47" name="Object 5"/>
          <p:cNvGraphicFramePr/>
          <p:nvPr/>
        </p:nvGraphicFramePr>
        <p:xfrm>
          <a:off x="7288200" y="3254400"/>
          <a:ext cx="1717560" cy="801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48" name="Object 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288200" y="3254400"/>
                    <a:ext cx="1717560" cy="80172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49" name="Text Box 10"/>
          <p:cNvSpPr/>
          <p:nvPr/>
        </p:nvSpPr>
        <p:spPr>
          <a:xfrm>
            <a:off x="861840" y="4152960"/>
            <a:ext cx="159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o we hav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0" name="Object 6"/>
          <p:cNvGraphicFramePr/>
          <p:nvPr/>
        </p:nvGraphicFramePr>
        <p:xfrm>
          <a:off x="1224000" y="4584600"/>
          <a:ext cx="3390840" cy="7113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51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224000" y="4584600"/>
                    <a:ext cx="3390840" cy="71136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52" name="Object 7"/>
          <p:cNvGraphicFramePr/>
          <p:nvPr/>
        </p:nvGraphicFramePr>
        <p:xfrm>
          <a:off x="4794120" y="4597560"/>
          <a:ext cx="1193760" cy="6840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53" name="Object 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794120" y="4597560"/>
                    <a:ext cx="1193760" cy="68400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54" name="Object 8"/>
          <p:cNvGraphicFramePr/>
          <p:nvPr/>
        </p:nvGraphicFramePr>
        <p:xfrm>
          <a:off x="6167520" y="4575240"/>
          <a:ext cx="1350720" cy="7286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55" name="Object 8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6167520" y="4575240"/>
                    <a:ext cx="1350720" cy="72864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56" name="Text Box 14"/>
          <p:cNvSpPr/>
          <p:nvPr/>
        </p:nvSpPr>
        <p:spPr>
          <a:xfrm>
            <a:off x="1084320" y="5500800"/>
            <a:ext cx="113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iv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7" name="Object 9"/>
          <p:cNvGraphicFramePr/>
          <p:nvPr/>
        </p:nvGraphicFramePr>
        <p:xfrm>
          <a:off x="7697880" y="4575240"/>
          <a:ext cx="1047600" cy="7286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58" name="Object 9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7697880" y="4575240"/>
                    <a:ext cx="1047600" cy="72864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59" name="Object 10"/>
          <p:cNvGraphicFramePr/>
          <p:nvPr/>
        </p:nvGraphicFramePr>
        <p:xfrm>
          <a:off x="1254240" y="6019920"/>
          <a:ext cx="2489040" cy="6094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360" name="Object 10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1254240" y="6019920"/>
                    <a:ext cx="2489040" cy="60948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61" name="Object 12"/>
          <p:cNvGraphicFramePr/>
          <p:nvPr/>
        </p:nvGraphicFramePr>
        <p:xfrm>
          <a:off x="3882960" y="6019920"/>
          <a:ext cx="2408400" cy="63972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362" name="Object 12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3882960" y="6019920"/>
                    <a:ext cx="2408400" cy="63972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63" name="Text Box 4"/>
          <p:cNvSpPr/>
          <p:nvPr/>
        </p:nvSpPr>
        <p:spPr>
          <a:xfrm>
            <a:off x="1133640" y="623880"/>
            <a:ext cx="606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ntegrating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9" dur="8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0" dur="8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1" dur="8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6" dur="8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7" dur="8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8" dur="8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3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4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5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246240" y="911160"/>
            <a:ext cx="8456400" cy="3549600"/>
          </a:xfrm>
          <a:prstGeom prst="rect">
            <a:avLst/>
          </a:prstGeom>
          <a:solidFill>
            <a:srgbClr val="ffffcc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380960" y="1581120"/>
            <a:ext cx="4248360" cy="26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572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Examination-style question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99960" y="1027080"/>
            <a:ext cx="639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d the shaded area shown in the diagr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48840" y="6095880"/>
            <a:ext cx="628560" cy="57168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 flipV="1">
            <a:off x="1944720" y="1712880"/>
            <a:ext cx="0" cy="2270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630440" y="165096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10066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11360" y="29732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10066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308320" y="2131920"/>
            <a:ext cx="1728720" cy="1568520"/>
          </a:xfrm>
          <a:custGeom>
            <a:avLst/>
            <a:gdLst/>
            <a:ahLst/>
            <a:rect l="l" t="t" r="r" b="b"/>
            <a:pathLst>
              <a:path w="1089" h="988">
                <a:moveTo>
                  <a:pt x="0" y="199"/>
                </a:moveTo>
                <a:lnTo>
                  <a:pt x="52" y="127"/>
                </a:lnTo>
                <a:lnTo>
                  <a:pt x="108" y="75"/>
                </a:lnTo>
                <a:lnTo>
                  <a:pt x="175" y="25"/>
                </a:lnTo>
                <a:lnTo>
                  <a:pt x="214" y="10"/>
                </a:lnTo>
                <a:lnTo>
                  <a:pt x="277" y="0"/>
                </a:lnTo>
                <a:lnTo>
                  <a:pt x="312" y="4"/>
                </a:lnTo>
                <a:lnTo>
                  <a:pt x="358" y="24"/>
                </a:lnTo>
                <a:lnTo>
                  <a:pt x="420" y="63"/>
                </a:lnTo>
                <a:lnTo>
                  <a:pt x="481" y="124"/>
                </a:lnTo>
                <a:lnTo>
                  <a:pt x="565" y="214"/>
                </a:lnTo>
                <a:lnTo>
                  <a:pt x="712" y="405"/>
                </a:lnTo>
                <a:lnTo>
                  <a:pt x="852" y="556"/>
                </a:lnTo>
                <a:lnTo>
                  <a:pt x="1089" y="846"/>
                </a:lnTo>
                <a:lnTo>
                  <a:pt x="1035" y="900"/>
                </a:lnTo>
                <a:lnTo>
                  <a:pt x="954" y="955"/>
                </a:lnTo>
                <a:lnTo>
                  <a:pt x="871" y="988"/>
                </a:lnTo>
                <a:lnTo>
                  <a:pt x="748" y="966"/>
                </a:lnTo>
                <a:lnTo>
                  <a:pt x="625" y="894"/>
                </a:lnTo>
                <a:lnTo>
                  <a:pt x="529" y="808"/>
                </a:lnTo>
                <a:lnTo>
                  <a:pt x="439" y="715"/>
                </a:lnTo>
                <a:lnTo>
                  <a:pt x="334" y="601"/>
                </a:lnTo>
                <a:lnTo>
                  <a:pt x="219" y="463"/>
                </a:lnTo>
                <a:lnTo>
                  <a:pt x="121" y="340"/>
                </a:lnTo>
                <a:lnTo>
                  <a:pt x="0" y="199"/>
                </a:lnTo>
                <a:close/>
              </a:path>
            </a:pathLst>
          </a:custGeom>
          <a:solidFill>
            <a:srgbClr val="c9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592280" y="3025800"/>
            <a:ext cx="3914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847960" y="1798560"/>
            <a:ext cx="1496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99ff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3399ff"/>
                </a:solidFill>
                <a:latin typeface="Arial"/>
              </a:rPr>
              <a:t> = √3 sin 2</a:t>
            </a:r>
            <a:r>
              <a:rPr b="1" i="1" lang="en-US" sz="1800" spc="-1" strike="noStrike">
                <a:solidFill>
                  <a:srgbClr val="3399ff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843640" y="3686040"/>
            <a:ext cx="123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6600"/>
                </a:solidFill>
                <a:latin typeface="Times New Roman"/>
              </a:rPr>
              <a:t>y 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= cos 2</a:t>
            </a:r>
            <a:r>
              <a:rPr b="1" i="1" lang="en-US" sz="18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952640" y="2133720"/>
            <a:ext cx="3333600" cy="1681200"/>
          </a:xfrm>
          <a:custGeom>
            <a:avLst/>
            <a:gdLst/>
            <a:ahLst/>
            <a:rect l="l" t="t" r="r" b="b"/>
            <a:pathLst>
              <a:path w="2070" h="1059">
                <a:moveTo>
                  <a:pt x="0" y="528"/>
                </a:moveTo>
                <a:cubicBezTo>
                  <a:pt x="160" y="264"/>
                  <a:pt x="320" y="0"/>
                  <a:pt x="492" y="0"/>
                </a:cubicBezTo>
                <a:cubicBezTo>
                  <a:pt x="664" y="0"/>
                  <a:pt x="853" y="352"/>
                  <a:pt x="1032" y="528"/>
                </a:cubicBezTo>
                <a:cubicBezTo>
                  <a:pt x="1211" y="704"/>
                  <a:pt x="1393" y="1053"/>
                  <a:pt x="1566" y="1056"/>
                </a:cubicBezTo>
                <a:cubicBezTo>
                  <a:pt x="1739" y="1059"/>
                  <a:pt x="1940" y="724"/>
                  <a:pt x="2070" y="546"/>
                </a:cubicBezTo>
              </a:path>
            </a:pathLst>
          </a:custGeom>
          <a:noFill/>
          <a:ln w="284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1962000" y="2209680"/>
            <a:ext cx="3219480" cy="1486080"/>
            <a:chOff x="1962000" y="2209680"/>
            <a:chExt cx="3219480" cy="1486080"/>
          </a:xfrm>
        </p:grpSpPr>
        <p:sp>
          <p:nvSpPr>
            <p:cNvPr id="378" name=""/>
            <p:cNvSpPr/>
            <p:nvPr/>
          </p:nvSpPr>
          <p:spPr>
            <a:xfrm>
              <a:off x="2724120" y="2209680"/>
              <a:ext cx="2457360" cy="1486080"/>
            </a:xfrm>
            <a:custGeom>
              <a:avLst/>
              <a:gdLst/>
              <a:ahLst/>
              <a:rect l="l" t="t" r="r" b="b"/>
              <a:pathLst>
                <a:path w="1524" h="936">
                  <a:moveTo>
                    <a:pt x="0" y="474"/>
                  </a:moveTo>
                  <a:cubicBezTo>
                    <a:pt x="200" y="705"/>
                    <a:pt x="401" y="936"/>
                    <a:pt x="582" y="936"/>
                  </a:cubicBezTo>
                  <a:cubicBezTo>
                    <a:pt x="763" y="936"/>
                    <a:pt x="929" y="630"/>
                    <a:pt x="1086" y="474"/>
                  </a:cubicBezTo>
                  <a:cubicBezTo>
                    <a:pt x="1243" y="318"/>
                    <a:pt x="1410" y="38"/>
                    <a:pt x="1524" y="0"/>
                  </a:cubicBezTo>
                </a:path>
              </a:pathLst>
            </a:custGeom>
            <a:noFill/>
            <a:ln w="2844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962000" y="2271600"/>
              <a:ext cx="771840" cy="700200"/>
            </a:xfrm>
            <a:custGeom>
              <a:avLst/>
              <a:gdLst/>
              <a:ahLst/>
              <a:rect l="l" t="t" r="r" b="b"/>
              <a:pathLst>
                <a:path w="516" h="441">
                  <a:moveTo>
                    <a:pt x="516" y="441"/>
                  </a:moveTo>
                  <a:cubicBezTo>
                    <a:pt x="336" y="220"/>
                    <a:pt x="157" y="0"/>
                    <a:pt x="0" y="3"/>
                  </a:cubicBezTo>
                </a:path>
              </a:pathLst>
            </a:custGeom>
            <a:noFill/>
            <a:ln w="2844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2798640" y="25160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100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41200" y="4559400"/>
            <a:ext cx="863784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First we need to find the points where √3 sin2</a:t>
            </a:r>
            <a:r>
              <a:rPr b="0" i="1" lang="en-US" sz="2400" spc="-1" strike="noStrike">
                <a:solidFill>
                  <a:srgbClr val="010066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 and cos2</a:t>
            </a:r>
            <a:r>
              <a:rPr b="0" i="1" lang="en-US" sz="2400" spc="-1" strike="noStrike">
                <a:solidFill>
                  <a:srgbClr val="010066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 inters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299320" y="5181480"/>
            <a:ext cx="24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√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3 sin2</a:t>
            </a:r>
            <a:r>
              <a:rPr b="0" i="1" lang="en-GB" sz="2400" spc="-1" strike="noStrike">
                <a:solidFill>
                  <a:srgbClr val="010066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= cos2</a:t>
            </a:r>
            <a:r>
              <a:rPr b="0" i="1" lang="en-GB" sz="2400" spc="-1" strike="noStrike">
                <a:solidFill>
                  <a:srgbClr val="010066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1819440" y="5735520"/>
          <a:ext cx="1574640" cy="787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19440" y="5735520"/>
                    <a:ext cx="1574640" cy="7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5" name=""/>
          <p:cNvGraphicFramePr/>
          <p:nvPr/>
        </p:nvGraphicFramePr>
        <p:xfrm>
          <a:off x="3571920" y="5694480"/>
          <a:ext cx="2158920" cy="787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571920" y="5694480"/>
                    <a:ext cx="215892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48840" y="6095880"/>
            <a:ext cx="628560" cy="571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8" name=""/>
          <p:cNvGraphicFramePr/>
          <p:nvPr/>
        </p:nvGraphicFramePr>
        <p:xfrm>
          <a:off x="593640" y="922320"/>
          <a:ext cx="1790640" cy="787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3640" y="922320"/>
                    <a:ext cx="179064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0" name=""/>
          <p:cNvGraphicFramePr/>
          <p:nvPr/>
        </p:nvGraphicFramePr>
        <p:xfrm>
          <a:off x="2486160" y="1138320"/>
          <a:ext cx="1790640" cy="330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9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486160" y="1138320"/>
                    <a:ext cx="179064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2" name=""/>
          <p:cNvGraphicFramePr/>
          <p:nvPr/>
        </p:nvGraphicFramePr>
        <p:xfrm>
          <a:off x="399960" y="1897200"/>
          <a:ext cx="2336760" cy="330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9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9960" y="1897200"/>
                    <a:ext cx="233676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4" name=""/>
          <p:cNvGraphicFramePr/>
          <p:nvPr/>
        </p:nvGraphicFramePr>
        <p:xfrm>
          <a:off x="2550960" y="3814920"/>
          <a:ext cx="3683160" cy="609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550960" y="3814920"/>
                    <a:ext cx="36831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6" name=""/>
          <p:cNvGraphicFramePr/>
          <p:nvPr/>
        </p:nvGraphicFramePr>
        <p:xfrm>
          <a:off x="2550960" y="5584680"/>
          <a:ext cx="2629080" cy="3812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9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550960" y="5584680"/>
                    <a:ext cx="262908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8" name=""/>
          <p:cNvGraphicFramePr/>
          <p:nvPr/>
        </p:nvGraphicFramePr>
        <p:xfrm>
          <a:off x="2550960" y="6048360"/>
          <a:ext cx="1282680" cy="3430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99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550960" y="6048360"/>
                    <a:ext cx="1282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0" name=""/>
          <p:cNvGraphicFramePr/>
          <p:nvPr/>
        </p:nvGraphicFramePr>
        <p:xfrm>
          <a:off x="2550960" y="4435560"/>
          <a:ext cx="3441960" cy="6220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550960" y="4435560"/>
                    <a:ext cx="344196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"/>
          <p:cNvSpPr/>
          <p:nvPr/>
        </p:nvSpPr>
        <p:spPr>
          <a:xfrm>
            <a:off x="352440" y="2440080"/>
            <a:ext cx="82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Remembering that the area </a:t>
            </a:r>
            <a:r>
              <a:rPr b="0" i="1" lang="en-US" sz="2400" spc="-1" strike="noStrike">
                <a:solidFill>
                  <a:srgbClr val="010066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 between two curves </a:t>
            </a:r>
            <a:r>
              <a:rPr b="0" i="1" lang="en-US" sz="2400" spc="-1" strike="noStrike">
                <a:solidFill>
                  <a:srgbClr val="010066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10066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10066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) and </a:t>
            </a:r>
            <a:r>
              <a:rPr b="0" i="1" lang="en-US" sz="2400" spc="-1" strike="noStrike">
                <a:solidFill>
                  <a:srgbClr val="010066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10066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10066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) is given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2263680" y="3225960"/>
          <a:ext cx="2832120" cy="5968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263680" y="3225960"/>
                    <a:ext cx="28321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5" name=""/>
          <p:cNvGraphicFramePr/>
          <p:nvPr/>
        </p:nvGraphicFramePr>
        <p:xfrm>
          <a:off x="2550960" y="5054760"/>
          <a:ext cx="6223320" cy="4442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406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2550960" y="5054760"/>
                    <a:ext cx="622332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7" name=""/>
          <p:cNvSpPr/>
          <p:nvPr/>
        </p:nvSpPr>
        <p:spPr>
          <a:xfrm>
            <a:off x="2759040" y="1789200"/>
            <a:ext cx="585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so the boundaries are </a:t>
            </a:r>
            <a:r>
              <a:rPr b="0" i="1" lang="en-GB" sz="2400" spc="-1" strike="noStrike">
                <a:solidFill>
                  <a:srgbClr val="010066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= 15 and </a:t>
            </a:r>
            <a:r>
              <a:rPr b="0" i="1" lang="en-GB" sz="2400" spc="-1" strike="noStrike">
                <a:solidFill>
                  <a:srgbClr val="010066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= 10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0" y="0"/>
            <a:ext cx="4572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Examination-style question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246240" y="911160"/>
            <a:ext cx="8456400" cy="2635200"/>
          </a:xfrm>
          <a:prstGeom prst="rect">
            <a:avLst/>
          </a:prstGeom>
          <a:solidFill>
            <a:srgbClr val="ffffcc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47680" y="1684440"/>
            <a:ext cx="845676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’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d the coordinates of any stationary points and determine their natur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ketch the curv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47680" y="1160640"/>
            <a:ext cx="845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iven that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               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2" name=""/>
          <p:cNvGraphicFramePr/>
          <p:nvPr/>
        </p:nvGraphicFramePr>
        <p:xfrm>
          <a:off x="1935000" y="1085760"/>
          <a:ext cx="2248200" cy="57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35000" y="1085760"/>
                    <a:ext cx="224820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4" name=""/>
          <p:cNvSpPr/>
          <p:nvPr/>
        </p:nvSpPr>
        <p:spPr>
          <a:xfrm>
            <a:off x="250920" y="3757680"/>
            <a:ext cx="873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a) Using the chain rule in the form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2384280" y="4919760"/>
          <a:ext cx="348012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84280" y="4919760"/>
                    <a:ext cx="348012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17" name="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448840" y="6095880"/>
            <a:ext cx="628560" cy="571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8" name=""/>
          <p:cNvGraphicFramePr/>
          <p:nvPr/>
        </p:nvGraphicFramePr>
        <p:xfrm>
          <a:off x="3162240" y="5506920"/>
          <a:ext cx="3365640" cy="393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162240" y="5506920"/>
                    <a:ext cx="336564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20" name=""/>
          <p:cNvGrpSpPr/>
          <p:nvPr/>
        </p:nvGrpSpPr>
        <p:grpSpPr>
          <a:xfrm>
            <a:off x="1983960" y="4108320"/>
            <a:ext cx="5180400" cy="736560"/>
            <a:chOff x="1983960" y="4108320"/>
            <a:chExt cx="5180400" cy="736560"/>
          </a:xfrm>
        </p:grpSpPr>
        <p:sp>
          <p:nvSpPr>
            <p:cNvPr id="421" name=""/>
            <p:cNvSpPr/>
            <p:nvPr/>
          </p:nvSpPr>
          <p:spPr>
            <a:xfrm>
              <a:off x="1983960" y="4248000"/>
              <a:ext cx="238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If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= (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))</a:t>
              </a:r>
              <a:r>
                <a:rPr b="0" i="1" lang="en-GB" sz="2400" spc="-1" strike="noStrike" baseline="30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th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22" name=""/>
            <p:cNvGraphicFramePr/>
            <p:nvPr/>
          </p:nvGraphicFramePr>
          <p:xfrm>
            <a:off x="4332240" y="4108320"/>
            <a:ext cx="2832120" cy="7365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423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4332240" y="4108320"/>
                      <a:ext cx="2832120" cy="73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24" name=""/>
          <p:cNvGraphicFramePr/>
          <p:nvPr/>
        </p:nvGraphicFramePr>
        <p:xfrm>
          <a:off x="3181320" y="6081840"/>
          <a:ext cx="3645000" cy="3427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2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181320" y="6081840"/>
                    <a:ext cx="364500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6" name=""/>
          <p:cNvSpPr/>
          <p:nvPr/>
        </p:nvSpPr>
        <p:spPr>
          <a:xfrm>
            <a:off x="0" y="0"/>
            <a:ext cx="4572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Examination-style question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4"/>
          <p:cNvSpPr/>
          <p:nvPr/>
        </p:nvSpPr>
        <p:spPr>
          <a:xfrm>
            <a:off x="511200" y="642960"/>
            <a:ext cx="731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ntegrating Composite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1457280" y="205416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y “reversing” the Chain Rule we see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Object 4"/>
          <p:cNvGraphicFramePr/>
          <p:nvPr/>
        </p:nvGraphicFramePr>
        <p:xfrm>
          <a:off x="2444760" y="2779560"/>
          <a:ext cx="4578480" cy="1101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44760" y="2779560"/>
                    <a:ext cx="4578480" cy="1101960"/>
                  </a:xfrm>
                  <a:prstGeom prst="rect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2" name="Text Box 9"/>
          <p:cNvSpPr/>
          <p:nvPr/>
        </p:nvSpPr>
        <p:spPr>
          <a:xfrm>
            <a:off x="855720" y="4419720"/>
            <a:ext cx="28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orked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Object 2"/>
          <p:cNvGraphicFramePr/>
          <p:nvPr/>
        </p:nvGraphicFramePr>
        <p:xfrm>
          <a:off x="1014480" y="5072040"/>
          <a:ext cx="2771640" cy="695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14480" y="5072040"/>
                    <a:ext cx="2771640" cy="69552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5" name="Object 3"/>
          <p:cNvGraphicFramePr/>
          <p:nvPr/>
        </p:nvGraphicFramePr>
        <p:xfrm>
          <a:off x="6667560" y="4967280"/>
          <a:ext cx="2111400" cy="905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6" name="Object 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667560" y="4967280"/>
                    <a:ext cx="2111400" cy="90504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7" name="Object 2"/>
          <p:cNvGraphicFramePr/>
          <p:nvPr/>
        </p:nvGraphicFramePr>
        <p:xfrm>
          <a:off x="3992400" y="4967280"/>
          <a:ext cx="2467080" cy="9050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8" name="Object 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992400" y="4967280"/>
                    <a:ext cx="2467080" cy="90504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2195640" y="0"/>
            <a:ext cx="47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urther calc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767640" y="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3   Outco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6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250920" y="1011240"/>
            <a:ext cx="873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) When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= 0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3281400" y="3181320"/>
          <a:ext cx="2349360" cy="33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81400" y="3181320"/>
                    <a:ext cx="234936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0" name=""/>
          <p:cNvSpPr/>
          <p:nvPr/>
        </p:nvSpPr>
        <p:spPr>
          <a:xfrm>
            <a:off x="243360" y="3652920"/>
            <a:ext cx="31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When </a:t>
            </a:r>
            <a:r>
              <a:rPr b="0" i="1" lang="en-GB" sz="2400" spc="-1" strike="noStrike">
                <a:solidFill>
                  <a:srgbClr val="010066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= –2,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= 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43720" y="4167360"/>
            <a:ext cx="33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When </a:t>
            </a:r>
            <a:r>
              <a:rPr b="0" i="1" lang="en-GB" sz="2400" spc="-1" strike="noStrike">
                <a:solidFill>
                  <a:srgbClr val="010066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= –1,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= –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250920" y="5129280"/>
            <a:ext cx="8637480" cy="915840"/>
            <a:chOff x="250920" y="5129280"/>
            <a:chExt cx="8637480" cy="915840"/>
          </a:xfrm>
        </p:grpSpPr>
        <p:sp>
          <p:nvSpPr>
            <p:cNvPr id="433" name=""/>
            <p:cNvSpPr/>
            <p:nvPr/>
          </p:nvSpPr>
          <p:spPr>
            <a:xfrm>
              <a:off x="250920" y="5219640"/>
              <a:ext cx="8637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Therefore, the graph of the function                           has turning points at </a:t>
              </a:r>
              <a:r>
                <a:rPr b="0" lang="en-GB" sz="2400" spc="-1" strike="noStrike">
                  <a:solidFill>
                    <a:srgbClr val="ff6600"/>
                  </a:solidFill>
                  <a:latin typeface="Arial"/>
                </a:rPr>
                <a:t>(–2, 0)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GB" sz="2400" spc="-1" strike="noStrike">
                  <a:solidFill>
                    <a:srgbClr val="ff6600"/>
                  </a:solidFill>
                  <a:latin typeface="Arial"/>
                </a:rPr>
                <a:t>(–1, –1)</a:t>
              </a: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nd </a:t>
              </a:r>
              <a:r>
                <a:rPr b="0" lang="en-GB" sz="2400" spc="-1" strike="noStrike">
                  <a:solidFill>
                    <a:srgbClr val="ff6600"/>
                  </a:solidFill>
                  <a:latin typeface="Arial"/>
                </a:rPr>
                <a:t>(0, 0)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34" name=""/>
            <p:cNvGraphicFramePr/>
            <p:nvPr/>
          </p:nvGraphicFramePr>
          <p:xfrm>
            <a:off x="5153040" y="5129280"/>
            <a:ext cx="2235240" cy="571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3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153040" y="5129280"/>
                      <a:ext cx="2235240" cy="571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436" name="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448840" y="6095880"/>
            <a:ext cx="628560" cy="571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7" name=""/>
          <p:cNvGraphicFramePr/>
          <p:nvPr/>
        </p:nvGraphicFramePr>
        <p:xfrm>
          <a:off x="2978280" y="1042920"/>
          <a:ext cx="2997000" cy="393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78280" y="1042920"/>
                    <a:ext cx="299700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9" name=""/>
          <p:cNvGraphicFramePr/>
          <p:nvPr/>
        </p:nvGraphicFramePr>
        <p:xfrm>
          <a:off x="3156120" y="1576440"/>
          <a:ext cx="2819160" cy="393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4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156120" y="1576440"/>
                    <a:ext cx="281916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1" name=""/>
          <p:cNvGraphicFramePr/>
          <p:nvPr/>
        </p:nvGraphicFramePr>
        <p:xfrm>
          <a:off x="3092400" y="2111400"/>
          <a:ext cx="2882880" cy="393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4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092400" y="2111400"/>
                    <a:ext cx="288288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3" name=""/>
          <p:cNvGraphicFramePr/>
          <p:nvPr/>
        </p:nvGraphicFramePr>
        <p:xfrm>
          <a:off x="3181320" y="2646360"/>
          <a:ext cx="2793960" cy="3938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44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181320" y="2646360"/>
                    <a:ext cx="279396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5" name=""/>
          <p:cNvSpPr/>
          <p:nvPr/>
        </p:nvSpPr>
        <p:spPr>
          <a:xfrm>
            <a:off x="243000" y="468144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When </a:t>
            </a:r>
            <a:r>
              <a:rPr b="0" i="1" lang="en-GB" sz="2400" spc="-1" strike="noStrike">
                <a:solidFill>
                  <a:srgbClr val="010066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= 0,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= 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0" y="0"/>
            <a:ext cx="4572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Examination-style question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>
            <a:off x="250920" y="927000"/>
            <a:ext cx="873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ing at the gradient just before and just aft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–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092680" y="3227400"/>
            <a:ext cx="533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(2, 0) is a falling point of inflec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324000" y="1446120"/>
            <a:ext cx="8424720" cy="1724040"/>
            <a:chOff x="324000" y="1446120"/>
            <a:chExt cx="8424720" cy="1724040"/>
          </a:xfrm>
        </p:grpSpPr>
        <p:sp>
          <p:nvSpPr>
            <p:cNvPr id="450" name=""/>
            <p:cNvSpPr/>
            <p:nvPr/>
          </p:nvSpPr>
          <p:spPr>
            <a:xfrm>
              <a:off x="324000" y="1446120"/>
              <a:ext cx="3240000" cy="432000"/>
            </a:xfrm>
            <a:prstGeom prst="rect">
              <a:avLst/>
            </a:prstGeom>
            <a:solidFill>
              <a:srgbClr val="ddf4f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10066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565440" y="1446120"/>
              <a:ext cx="1727280" cy="432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66"/>
                  </a:solidFill>
                  <a:latin typeface="Arial"/>
                </a:rPr>
                <a:t>–</a:t>
              </a:r>
              <a:r>
                <a:rPr b="0" lang="en-US" sz="2400" spc="-1" strike="noStrike">
                  <a:solidFill>
                    <a:srgbClr val="010066"/>
                  </a:solidFill>
                  <a:latin typeface="Arial"/>
                </a:rPr>
                <a:t>2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294160" y="1446120"/>
              <a:ext cx="1727280" cy="432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021440" y="1446120"/>
              <a:ext cx="1727280" cy="432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66"/>
                  </a:solidFill>
                  <a:latin typeface="Arial"/>
                </a:rPr>
                <a:t>–</a:t>
              </a:r>
              <a:r>
                <a:rPr b="0" lang="en-US" sz="2400" spc="-1" strike="noStrike">
                  <a:solidFill>
                    <a:srgbClr val="010066"/>
                  </a:solidFill>
                  <a:latin typeface="Arial"/>
                </a:rPr>
                <a:t>1.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24000" y="1873080"/>
              <a:ext cx="3240000" cy="792360"/>
            </a:xfrm>
            <a:prstGeom prst="rect">
              <a:avLst/>
            </a:prstGeom>
            <a:solidFill>
              <a:srgbClr val="ddf4f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66"/>
                  </a:solidFill>
                  <a:latin typeface="Arial"/>
                </a:rPr>
                <a:t>       </a:t>
              </a:r>
              <a:r>
                <a:rPr b="0" lang="en-US" sz="2400" spc="-1" strike="noStrike">
                  <a:solidFill>
                    <a:srgbClr val="010066"/>
                  </a:solidFill>
                  <a:latin typeface="Arial"/>
                </a:rPr>
                <a:t>Value o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55" name=""/>
            <p:cNvGraphicFramePr/>
            <p:nvPr/>
          </p:nvGraphicFramePr>
          <p:xfrm>
            <a:off x="2187720" y="2090880"/>
            <a:ext cx="711000" cy="355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5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87720" y="2090880"/>
                      <a:ext cx="711000" cy="35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57" name=""/>
            <p:cNvSpPr/>
            <p:nvPr/>
          </p:nvSpPr>
          <p:spPr>
            <a:xfrm>
              <a:off x="3564000" y="1873080"/>
              <a:ext cx="1727280" cy="792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291280" y="1873080"/>
              <a:ext cx="1726920" cy="792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020000" y="1873080"/>
              <a:ext cx="1727280" cy="792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24000" y="2665440"/>
              <a:ext cx="3240000" cy="504720"/>
            </a:xfrm>
            <a:prstGeom prst="rect">
              <a:avLst/>
            </a:prstGeom>
            <a:solidFill>
              <a:srgbClr val="ddf4f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66"/>
                  </a:solidFill>
                  <a:latin typeface="Arial"/>
                </a:rPr>
                <a:t>Slop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564000" y="2665440"/>
              <a:ext cx="1727280" cy="504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291280" y="2665440"/>
              <a:ext cx="1726920" cy="504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020000" y="2665440"/>
              <a:ext cx="1727280" cy="504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250920" y="3716280"/>
            <a:ext cx="873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ing at the gradient just before and just aft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–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705400" y="605484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(–1, –1) is a minimu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324000" y="4268880"/>
            <a:ext cx="8424720" cy="1728720"/>
            <a:chOff x="324000" y="4268880"/>
            <a:chExt cx="8424720" cy="1728720"/>
          </a:xfrm>
        </p:grpSpPr>
        <p:sp>
          <p:nvSpPr>
            <p:cNvPr id="467" name=""/>
            <p:cNvSpPr/>
            <p:nvPr/>
          </p:nvSpPr>
          <p:spPr>
            <a:xfrm>
              <a:off x="324000" y="4268880"/>
              <a:ext cx="3240000" cy="431640"/>
            </a:xfrm>
            <a:prstGeom prst="rect">
              <a:avLst/>
            </a:prstGeom>
            <a:solidFill>
              <a:srgbClr val="ddf4f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10066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565440" y="4268880"/>
              <a:ext cx="1727280" cy="431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66"/>
                  </a:solidFill>
                  <a:latin typeface="Arial"/>
                </a:rPr>
                <a:t>–</a:t>
              </a:r>
              <a:r>
                <a:rPr b="0" lang="en-US" sz="2400" spc="-1" strike="noStrike">
                  <a:solidFill>
                    <a:srgbClr val="010066"/>
                  </a:solidFill>
                  <a:latin typeface="Arial"/>
                </a:rPr>
                <a:t>1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294160" y="4268880"/>
              <a:ext cx="1727280" cy="431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66"/>
                  </a:solidFill>
                  <a:latin typeface="Arial"/>
                </a:rPr>
                <a:t>–</a:t>
              </a:r>
              <a:r>
                <a:rPr b="0" lang="en-US" sz="2400" spc="-1" strike="noStrike">
                  <a:solidFill>
                    <a:srgbClr val="01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021440" y="4268880"/>
              <a:ext cx="1727280" cy="431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66"/>
                  </a:solidFill>
                  <a:latin typeface="Arial"/>
                </a:rPr>
                <a:t>–</a:t>
              </a:r>
              <a:r>
                <a:rPr b="0" lang="en-US" sz="2400" spc="-1" strike="noStrike">
                  <a:solidFill>
                    <a:srgbClr val="010066"/>
                  </a:solidFill>
                  <a:latin typeface="Arial"/>
                </a:rPr>
                <a:t>0.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24000" y="4700520"/>
              <a:ext cx="3240000" cy="792360"/>
            </a:xfrm>
            <a:prstGeom prst="rect">
              <a:avLst/>
            </a:prstGeom>
            <a:solidFill>
              <a:srgbClr val="ddf4f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66"/>
                  </a:solidFill>
                  <a:latin typeface="Arial"/>
                </a:rPr>
                <a:t>       </a:t>
              </a:r>
              <a:r>
                <a:rPr b="0" lang="en-US" sz="2400" spc="-1" strike="noStrike">
                  <a:solidFill>
                    <a:srgbClr val="010066"/>
                  </a:solidFill>
                  <a:latin typeface="Arial"/>
                </a:rPr>
                <a:t>Value o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72" name=""/>
            <p:cNvGraphicFramePr/>
            <p:nvPr/>
          </p:nvGraphicFramePr>
          <p:xfrm>
            <a:off x="2187720" y="4917960"/>
            <a:ext cx="711000" cy="355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187720" y="4917960"/>
                      <a:ext cx="711000" cy="35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74" name=""/>
            <p:cNvSpPr/>
            <p:nvPr/>
          </p:nvSpPr>
          <p:spPr>
            <a:xfrm>
              <a:off x="3564000" y="4700520"/>
              <a:ext cx="1727280" cy="792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291280" y="4700520"/>
              <a:ext cx="1726920" cy="792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020000" y="4700520"/>
              <a:ext cx="1727280" cy="792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24000" y="5492880"/>
              <a:ext cx="3240000" cy="504720"/>
            </a:xfrm>
            <a:prstGeom prst="rect">
              <a:avLst/>
            </a:prstGeom>
            <a:solidFill>
              <a:srgbClr val="ddf4f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66"/>
                  </a:solidFill>
                  <a:latin typeface="Arial"/>
                </a:rPr>
                <a:t>Slop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564000" y="5492880"/>
              <a:ext cx="1727280" cy="504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291280" y="5492880"/>
              <a:ext cx="1726920" cy="504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020000" y="5492880"/>
              <a:ext cx="1727280" cy="504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"/>
          <p:cNvSpPr/>
          <p:nvPr/>
        </p:nvSpPr>
        <p:spPr>
          <a:xfrm>
            <a:off x="7497720" y="2736720"/>
            <a:ext cx="71928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831800" y="266220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–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796000" y="2781360"/>
            <a:ext cx="719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001200" y="2803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439520" y="268128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–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H="1" flipV="1">
            <a:off x="4040280" y="2763360"/>
            <a:ext cx="681120" cy="297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564000" y="1873080"/>
            <a:ext cx="1727280" cy="792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0.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291280" y="1873080"/>
            <a:ext cx="1726920" cy="792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020000" y="1873080"/>
            <a:ext cx="1727280" cy="792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0.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564000" y="4700520"/>
            <a:ext cx="1727280" cy="792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0.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291280" y="4700520"/>
            <a:ext cx="1726920" cy="792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7020000" y="4700520"/>
            <a:ext cx="1727280" cy="792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0.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4067280" y="5564160"/>
            <a:ext cx="71892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401360" y="548964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–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796000" y="5877000"/>
            <a:ext cx="719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001200" y="5510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204320" y="548964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+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7522920" y="5564160"/>
            <a:ext cx="71892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448840" y="6095880"/>
            <a:ext cx="628560" cy="571680"/>
          </a:xfrm>
          <a:prstGeom prst="rect">
            <a:avLst/>
          </a:prstGeom>
          <a:ln w="0">
            <a:noFill/>
          </a:ln>
        </p:spPr>
      </p:pic>
      <p:sp>
        <p:nvSpPr>
          <p:cNvPr id="500" name=""/>
          <p:cNvSpPr/>
          <p:nvPr/>
        </p:nvSpPr>
        <p:spPr>
          <a:xfrm>
            <a:off x="0" y="0"/>
            <a:ext cx="4572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Examination-style question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500"/>
                            </p:stCondLst>
                            <p:childTnLst>
                              <p:par>
                                <p:cTn id="7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500"/>
                            </p:stCondLst>
                            <p:childTnLst>
                              <p:par>
                                <p:cTn id="7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000"/>
                            </p:stCondLst>
                            <p:childTnLst>
                              <p:par>
                                <p:cTn id="7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1000"/>
                            </p:stCondLst>
                            <p:childTnLst>
                              <p:par>
                                <p:cTn id="7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1500"/>
                            </p:stCondLst>
                            <p:childTnLst>
                              <p:par>
                                <p:cTn id="7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500"/>
                            </p:stCondLst>
                            <p:childTnLst>
                              <p:par>
                                <p:cTn id="8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500"/>
                            </p:stCondLst>
                            <p:childTnLst>
                              <p:par>
                                <p:cTn id="8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1000"/>
                            </p:stCondLst>
                            <p:childTnLst>
                              <p:par>
                                <p:cTn id="8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6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1500"/>
                            </p:stCondLst>
                            <p:childTnLst>
                              <p:par>
                                <p:cTn id="8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1" name=""/>
          <p:cNvGrpSpPr/>
          <p:nvPr/>
        </p:nvGrpSpPr>
        <p:grpSpPr>
          <a:xfrm>
            <a:off x="1702080" y="3930480"/>
            <a:ext cx="3117240" cy="2393640"/>
            <a:chOff x="1702080" y="3930480"/>
            <a:chExt cx="3117240" cy="2393640"/>
          </a:xfrm>
        </p:grpSpPr>
        <p:grpSp>
          <p:nvGrpSpPr>
            <p:cNvPr id="502" name=""/>
            <p:cNvGrpSpPr/>
            <p:nvPr/>
          </p:nvGrpSpPr>
          <p:grpSpPr>
            <a:xfrm>
              <a:off x="3063960" y="3933720"/>
              <a:ext cx="1755360" cy="2390400"/>
              <a:chOff x="3063960" y="3933720"/>
              <a:chExt cx="1755360" cy="2390400"/>
            </a:xfrm>
          </p:grpSpPr>
          <p:sp>
            <p:nvSpPr>
              <p:cNvPr id="503" name=""/>
              <p:cNvSpPr/>
              <p:nvPr/>
            </p:nvSpPr>
            <p:spPr>
              <a:xfrm>
                <a:off x="3983760" y="3933720"/>
                <a:ext cx="835560" cy="1525680"/>
              </a:xfrm>
              <a:custGeom>
                <a:avLst/>
                <a:gdLst/>
                <a:ahLst/>
                <a:rect l="l" t="t" r="r" b="b"/>
                <a:pathLst>
                  <a:path w="480" h="984">
                    <a:moveTo>
                      <a:pt x="480" y="0"/>
                    </a:moveTo>
                    <a:cubicBezTo>
                      <a:pt x="387" y="483"/>
                      <a:pt x="295" y="966"/>
                      <a:pt x="0" y="984"/>
                    </a:cubicBezTo>
                  </a:path>
                </a:pathLst>
              </a:custGeom>
              <a:noFill/>
              <a:ln w="2844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3503160" y="5459400"/>
                <a:ext cx="469800" cy="557640"/>
              </a:xfrm>
              <a:custGeom>
                <a:avLst/>
                <a:gdLst/>
                <a:ahLst/>
                <a:rect l="l" t="t" r="r" b="b"/>
                <a:pathLst>
                  <a:path w="300" h="408">
                    <a:moveTo>
                      <a:pt x="0" y="408"/>
                    </a:moveTo>
                    <a:cubicBezTo>
                      <a:pt x="66" y="209"/>
                      <a:pt x="132" y="10"/>
                      <a:pt x="300" y="0"/>
                    </a:cubicBezTo>
                  </a:path>
                </a:pathLst>
              </a:custGeom>
              <a:noFill/>
              <a:ln w="2844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3063960" y="5924520"/>
                <a:ext cx="470160" cy="399600"/>
              </a:xfrm>
              <a:custGeom>
                <a:avLst/>
                <a:gdLst/>
                <a:ahLst/>
                <a:rect l="l" t="t" r="r" b="b"/>
                <a:pathLst>
                  <a:path w="270" h="324">
                    <a:moveTo>
                      <a:pt x="270" y="0"/>
                    </a:moveTo>
                    <a:cubicBezTo>
                      <a:pt x="230" y="157"/>
                      <a:pt x="191" y="314"/>
                      <a:pt x="0" y="324"/>
                    </a:cubicBezTo>
                  </a:path>
                </a:pathLst>
              </a:custGeom>
              <a:noFill/>
              <a:ln w="2844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6" name=""/>
            <p:cNvGrpSpPr/>
            <p:nvPr/>
          </p:nvGrpSpPr>
          <p:grpSpPr>
            <a:xfrm>
              <a:off x="1702080" y="3930480"/>
              <a:ext cx="1400040" cy="2390760"/>
              <a:chOff x="1702080" y="3930480"/>
              <a:chExt cx="1400040" cy="2390760"/>
            </a:xfrm>
          </p:grpSpPr>
          <p:sp>
            <p:nvSpPr>
              <p:cNvPr id="507" name=""/>
              <p:cNvSpPr/>
              <p:nvPr/>
            </p:nvSpPr>
            <p:spPr>
              <a:xfrm flipH="1">
                <a:off x="1701720" y="3930480"/>
                <a:ext cx="666360" cy="1526040"/>
              </a:xfrm>
              <a:custGeom>
                <a:avLst/>
                <a:gdLst/>
                <a:ahLst/>
                <a:rect l="l" t="t" r="r" b="b"/>
                <a:pathLst>
                  <a:path w="480" h="984">
                    <a:moveTo>
                      <a:pt x="480" y="0"/>
                    </a:moveTo>
                    <a:cubicBezTo>
                      <a:pt x="387" y="483"/>
                      <a:pt x="295" y="966"/>
                      <a:pt x="0" y="984"/>
                    </a:cubicBezTo>
                  </a:path>
                </a:pathLst>
              </a:custGeom>
              <a:noFill/>
              <a:ln w="2844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H="1">
                <a:off x="2376720" y="5456520"/>
                <a:ext cx="374760" cy="558000"/>
              </a:xfrm>
              <a:custGeom>
                <a:avLst/>
                <a:gdLst/>
                <a:ahLst/>
                <a:rect l="l" t="t" r="r" b="b"/>
                <a:pathLst>
                  <a:path w="300" h="408">
                    <a:moveTo>
                      <a:pt x="0" y="408"/>
                    </a:moveTo>
                    <a:cubicBezTo>
                      <a:pt x="66" y="209"/>
                      <a:pt x="132" y="10"/>
                      <a:pt x="300" y="0"/>
                    </a:cubicBezTo>
                  </a:path>
                </a:pathLst>
              </a:custGeom>
              <a:noFill/>
              <a:ln w="2844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H="1">
                <a:off x="2727000" y="5921640"/>
                <a:ext cx="375120" cy="399600"/>
              </a:xfrm>
              <a:custGeom>
                <a:avLst/>
                <a:gdLst/>
                <a:ahLst/>
                <a:rect l="l" t="t" r="r" b="b"/>
                <a:pathLst>
                  <a:path w="270" h="324">
                    <a:moveTo>
                      <a:pt x="270" y="0"/>
                    </a:moveTo>
                    <a:cubicBezTo>
                      <a:pt x="230" y="157"/>
                      <a:pt x="191" y="314"/>
                      <a:pt x="0" y="324"/>
                    </a:cubicBezTo>
                  </a:path>
                </a:pathLst>
              </a:custGeom>
              <a:noFill/>
              <a:ln w="2844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5007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Examination-style question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250920" y="3801960"/>
            <a:ext cx="873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2" name=""/>
          <p:cNvGraphicFramePr/>
          <p:nvPr/>
        </p:nvGraphicFramePr>
        <p:xfrm>
          <a:off x="4797360" y="3890880"/>
          <a:ext cx="2006640" cy="57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97360" y="3890880"/>
                    <a:ext cx="2006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4" name=""/>
          <p:cNvSpPr/>
          <p:nvPr/>
        </p:nvSpPr>
        <p:spPr>
          <a:xfrm>
            <a:off x="8388360" y="5950080"/>
            <a:ext cx="755640" cy="71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50920" y="927000"/>
            <a:ext cx="873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ing at the gradient just before and just aft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111040" y="3179880"/>
            <a:ext cx="526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(0, 0) is a rising point of inflec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324000" y="1446120"/>
            <a:ext cx="8424720" cy="1724040"/>
            <a:chOff x="324000" y="1446120"/>
            <a:chExt cx="8424720" cy="1724040"/>
          </a:xfrm>
        </p:grpSpPr>
        <p:sp>
          <p:nvSpPr>
            <p:cNvPr id="518" name=""/>
            <p:cNvSpPr/>
            <p:nvPr/>
          </p:nvSpPr>
          <p:spPr>
            <a:xfrm>
              <a:off x="324000" y="1446120"/>
              <a:ext cx="3240000" cy="432000"/>
            </a:xfrm>
            <a:prstGeom prst="rect">
              <a:avLst/>
            </a:prstGeom>
            <a:solidFill>
              <a:srgbClr val="ddf4f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10066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565440" y="1446120"/>
              <a:ext cx="1727280" cy="432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66"/>
                  </a:solidFill>
                  <a:latin typeface="Arial"/>
                </a:rPr>
                <a:t>–</a:t>
              </a:r>
              <a:r>
                <a:rPr b="0" lang="en-US" sz="2400" spc="-1" strike="noStrike">
                  <a:solidFill>
                    <a:srgbClr val="010066"/>
                  </a:solidFill>
                  <a:latin typeface="Arial"/>
                </a:rPr>
                <a:t>0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294160" y="1446120"/>
              <a:ext cx="1727280" cy="432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66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021440" y="1446120"/>
              <a:ext cx="1727280" cy="432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66"/>
                  </a:solidFill>
                  <a:latin typeface="Arial"/>
                </a:rPr>
                <a:t>0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24000" y="1873080"/>
              <a:ext cx="3240000" cy="792360"/>
            </a:xfrm>
            <a:prstGeom prst="rect">
              <a:avLst/>
            </a:prstGeom>
            <a:solidFill>
              <a:srgbClr val="ddf4f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66"/>
                  </a:solidFill>
                  <a:latin typeface="Arial"/>
                </a:rPr>
                <a:t>       </a:t>
              </a:r>
              <a:r>
                <a:rPr b="0" lang="en-US" sz="2400" spc="-1" strike="noStrike">
                  <a:solidFill>
                    <a:srgbClr val="010066"/>
                  </a:solidFill>
                  <a:latin typeface="Arial"/>
                </a:rPr>
                <a:t>Value o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23" name=""/>
            <p:cNvGraphicFramePr/>
            <p:nvPr/>
          </p:nvGraphicFramePr>
          <p:xfrm>
            <a:off x="2187720" y="2090880"/>
            <a:ext cx="711000" cy="355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2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187720" y="2090880"/>
                      <a:ext cx="711000" cy="35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5" name=""/>
            <p:cNvSpPr/>
            <p:nvPr/>
          </p:nvSpPr>
          <p:spPr>
            <a:xfrm>
              <a:off x="3564000" y="1873080"/>
              <a:ext cx="1727280" cy="792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291280" y="1873080"/>
              <a:ext cx="1726920" cy="792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020000" y="1873080"/>
              <a:ext cx="1727280" cy="792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24000" y="2665440"/>
              <a:ext cx="3240000" cy="504720"/>
            </a:xfrm>
            <a:prstGeom prst="rect">
              <a:avLst/>
            </a:prstGeom>
            <a:solidFill>
              <a:srgbClr val="ddf4f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66"/>
                  </a:solidFill>
                  <a:latin typeface="Arial"/>
                </a:rPr>
                <a:t>Slop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564000" y="2665440"/>
              <a:ext cx="1727280" cy="504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291280" y="2665440"/>
              <a:ext cx="1726920" cy="504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020000" y="2665440"/>
              <a:ext cx="1727280" cy="504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"/>
          <p:cNvSpPr/>
          <p:nvPr/>
        </p:nvSpPr>
        <p:spPr>
          <a:xfrm flipH="1">
            <a:off x="7607160" y="2736720"/>
            <a:ext cx="642960" cy="351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269480" y="266220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+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5796000" y="2781360"/>
            <a:ext cx="719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001200" y="2803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819600" y="268128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+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4211640" y="2765520"/>
            <a:ext cx="604800" cy="303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564000" y="1873080"/>
            <a:ext cx="1727280" cy="792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0.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5291280" y="1873080"/>
            <a:ext cx="1726920" cy="792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020000" y="1873080"/>
            <a:ext cx="1727280" cy="792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0.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1633680" y="3841560"/>
            <a:ext cx="3425760" cy="2763720"/>
            <a:chOff x="1633680" y="3841560"/>
            <a:chExt cx="3425760" cy="2763720"/>
          </a:xfrm>
        </p:grpSpPr>
        <p:sp>
          <p:nvSpPr>
            <p:cNvPr id="542" name=""/>
            <p:cNvSpPr/>
            <p:nvPr/>
          </p:nvSpPr>
          <p:spPr>
            <a:xfrm flipV="1">
              <a:off x="3975120" y="3841560"/>
              <a:ext cx="0" cy="2763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633680" y="5459400"/>
              <a:ext cx="3404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702240" y="5423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088000" y="542304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776480" y="5408640"/>
              <a:ext cx="28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60480" y="3846600"/>
              <a:ext cx="28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609000" y="606096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894760" y="542304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421520" y="5423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6" dur="indefinite" restart="never" nodeType="tmRoot">
          <p:childTnLst>
            <p:seq>
              <p:cTn id="827" dur="indefinite" nodeType="mainSeq">
                <p:childTnLst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500"/>
                            </p:stCondLst>
                            <p:childTnLst>
                              <p:par>
                                <p:cTn id="8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500"/>
                            </p:stCondLst>
                            <p:childTnLst>
                              <p:par>
                                <p:cTn id="8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1000"/>
                            </p:stCondLst>
                            <p:childTnLst>
                              <p:par>
                                <p:cTn id="8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1000"/>
                            </p:stCondLst>
                            <p:childTnLst>
                              <p:par>
                                <p:cTn id="8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1500"/>
                            </p:stCondLst>
                            <p:childTnLst>
                              <p:par>
                                <p:cTn id="8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4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0" y="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er Mathe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50920" y="1773360"/>
            <a:ext cx="8424720" cy="3566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232  Ex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for Tomor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767640" y="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3   Outco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0" y="6553080"/>
            <a:ext cx="21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D70C1-872C-43CB-8E87-668D2DC7330D}" type="datetime2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Friday, 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0" y="404640"/>
            <a:ext cx="9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sson 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195640" y="0"/>
            <a:ext cx="47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urther calc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4"/>
          <p:cNvSpPr/>
          <p:nvPr/>
        </p:nvSpPr>
        <p:spPr>
          <a:xfrm>
            <a:off x="239760" y="515880"/>
            <a:ext cx="78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Integrating Composite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Object 6"/>
          <p:cNvGraphicFramePr/>
          <p:nvPr/>
        </p:nvGraphicFramePr>
        <p:xfrm>
          <a:off x="2671920" y="1981080"/>
          <a:ext cx="4614840" cy="96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71920" y="1981080"/>
                    <a:ext cx="4614840" cy="965160"/>
                  </a:xfrm>
                  <a:prstGeom prst="rect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5" name="Text Box 9"/>
          <p:cNvSpPr/>
          <p:nvPr/>
        </p:nvSpPr>
        <p:spPr>
          <a:xfrm>
            <a:off x="1695600" y="344664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Exampl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Object 2"/>
          <p:cNvGraphicFramePr/>
          <p:nvPr/>
        </p:nvGraphicFramePr>
        <p:xfrm>
          <a:off x="3975120" y="3413160"/>
          <a:ext cx="2476440" cy="660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7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75120" y="3413160"/>
                    <a:ext cx="2476440" cy="66024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8" name="Object 3"/>
          <p:cNvGraphicFramePr/>
          <p:nvPr/>
        </p:nvGraphicFramePr>
        <p:xfrm>
          <a:off x="1405080" y="5873760"/>
          <a:ext cx="1511280" cy="431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9" name="Object 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405080" y="5873760"/>
                    <a:ext cx="1511280" cy="43164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0" name="Object 4"/>
          <p:cNvGraphicFramePr/>
          <p:nvPr/>
        </p:nvGraphicFramePr>
        <p:xfrm>
          <a:off x="3336840" y="5716440"/>
          <a:ext cx="1930320" cy="6987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" name="Object 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336840" y="5716440"/>
                    <a:ext cx="1930320" cy="69876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2" name="Object 5"/>
          <p:cNvGraphicFramePr/>
          <p:nvPr/>
        </p:nvGraphicFramePr>
        <p:xfrm>
          <a:off x="5688000" y="5721480"/>
          <a:ext cx="1955880" cy="647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3" name="Object 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688000" y="5721480"/>
                    <a:ext cx="1955880" cy="64764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4" name="Text Box 14"/>
          <p:cNvSpPr/>
          <p:nvPr/>
        </p:nvSpPr>
        <p:spPr>
          <a:xfrm>
            <a:off x="1224000" y="4768920"/>
            <a:ext cx="19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-ar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5"/>
          <p:cNvSpPr/>
          <p:nvPr/>
        </p:nvSpPr>
        <p:spPr>
          <a:xfrm>
            <a:off x="3083040" y="4584600"/>
            <a:ext cx="237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are with standard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AutoShape 17"/>
          <p:cNvCxnSpPr>
            <a:stCxn id="85" idx="3"/>
          </p:cNvCxnSpPr>
          <p:nvPr/>
        </p:nvCxnSpPr>
        <p:spPr>
          <a:xfrm flipV="1">
            <a:off x="5406840" y="2975760"/>
            <a:ext cx="1608840" cy="2025000"/>
          </a:xfrm>
          <a:prstGeom prst="bentConnector2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195640" y="0"/>
            <a:ext cx="47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urther calc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767640" y="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3   Outco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6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960"/>
                            </p:stCondLst>
                            <p:childTnLst>
                              <p:par>
                                <p:cTn id="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4"/>
          <p:cNvSpPr/>
          <p:nvPr/>
        </p:nvSpPr>
        <p:spPr>
          <a:xfrm>
            <a:off x="861840" y="143820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Object 2"/>
          <p:cNvGraphicFramePr/>
          <p:nvPr/>
        </p:nvGraphicFramePr>
        <p:xfrm>
          <a:off x="2527200" y="2243160"/>
          <a:ext cx="3989520" cy="642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27200" y="2243160"/>
                    <a:ext cx="3989520" cy="64296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3" name="Text Box 7"/>
          <p:cNvSpPr/>
          <p:nvPr/>
        </p:nvSpPr>
        <p:spPr>
          <a:xfrm>
            <a:off x="3124080" y="3413160"/>
            <a:ext cx="253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ompare with standard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Object 3"/>
          <p:cNvGraphicFramePr/>
          <p:nvPr/>
        </p:nvGraphicFramePr>
        <p:xfrm>
          <a:off x="1592280" y="4543560"/>
          <a:ext cx="1473120" cy="431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5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92280" y="4543560"/>
                    <a:ext cx="1473120" cy="43164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96" name="Object 4"/>
          <p:cNvGraphicFramePr/>
          <p:nvPr/>
        </p:nvGraphicFramePr>
        <p:xfrm>
          <a:off x="3328920" y="4410000"/>
          <a:ext cx="1905120" cy="698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7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328920" y="4410000"/>
                    <a:ext cx="1905120" cy="69840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98" name="Object 5"/>
          <p:cNvGraphicFramePr/>
          <p:nvPr/>
        </p:nvGraphicFramePr>
        <p:xfrm>
          <a:off x="5499000" y="4435560"/>
          <a:ext cx="1676520" cy="647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9" name="Object 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499000" y="4435560"/>
                    <a:ext cx="1676520" cy="64764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00" name="Object 6"/>
          <p:cNvGraphicFramePr/>
          <p:nvPr/>
        </p:nvGraphicFramePr>
        <p:xfrm>
          <a:off x="2965320" y="5845320"/>
          <a:ext cx="3111480" cy="6602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01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965320" y="5845320"/>
                    <a:ext cx="3111480" cy="66024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2" name="Text Box 4"/>
          <p:cNvSpPr/>
          <p:nvPr/>
        </p:nvSpPr>
        <p:spPr>
          <a:xfrm>
            <a:off x="239760" y="515880"/>
            <a:ext cx="78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Integrating Composite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95640" y="0"/>
            <a:ext cx="47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urther calc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767640" y="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3   Outco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4"/>
          <p:cNvSpPr/>
          <p:nvPr/>
        </p:nvSpPr>
        <p:spPr>
          <a:xfrm>
            <a:off x="0" y="981000"/>
            <a:ext cx="141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Object 2"/>
          <p:cNvGraphicFramePr/>
          <p:nvPr/>
        </p:nvGraphicFramePr>
        <p:xfrm>
          <a:off x="2744640" y="1981080"/>
          <a:ext cx="3672000" cy="654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44640" y="1981080"/>
                    <a:ext cx="3672000" cy="65412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09" name="Object 3"/>
          <p:cNvGraphicFramePr/>
          <p:nvPr/>
        </p:nvGraphicFramePr>
        <p:xfrm>
          <a:off x="1042920" y="3154320"/>
          <a:ext cx="1460520" cy="432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0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42920" y="3154320"/>
                    <a:ext cx="1460520" cy="43200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1" name="Object 4"/>
          <p:cNvGraphicFramePr/>
          <p:nvPr/>
        </p:nvGraphicFramePr>
        <p:xfrm>
          <a:off x="3851280" y="3021120"/>
          <a:ext cx="2527200" cy="698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2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851280" y="3021120"/>
                    <a:ext cx="2527200" cy="69840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3" name="Object 5"/>
          <p:cNvGraphicFramePr/>
          <p:nvPr/>
        </p:nvGraphicFramePr>
        <p:xfrm>
          <a:off x="2687760" y="3218040"/>
          <a:ext cx="977760" cy="3045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4" name="Object 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687760" y="3218040"/>
                    <a:ext cx="977760" cy="30456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5" name="Object 6"/>
          <p:cNvGraphicFramePr/>
          <p:nvPr/>
        </p:nvGraphicFramePr>
        <p:xfrm>
          <a:off x="6456240" y="3027240"/>
          <a:ext cx="1933560" cy="6858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16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456240" y="3027240"/>
                    <a:ext cx="1933560" cy="68580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7" name="Object 7"/>
          <p:cNvGraphicFramePr/>
          <p:nvPr/>
        </p:nvGraphicFramePr>
        <p:xfrm>
          <a:off x="1198440" y="4576680"/>
          <a:ext cx="1562400" cy="4953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18" name="Object 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198440" y="4576680"/>
                    <a:ext cx="1562400" cy="49536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9" name="Object 8"/>
          <p:cNvGraphicFramePr/>
          <p:nvPr/>
        </p:nvGraphicFramePr>
        <p:xfrm>
          <a:off x="2890800" y="4672080"/>
          <a:ext cx="1650960" cy="3045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20" name="Object 8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890800" y="4672080"/>
                    <a:ext cx="1650960" cy="30456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21" name="Object 9"/>
          <p:cNvGraphicFramePr/>
          <p:nvPr/>
        </p:nvGraphicFramePr>
        <p:xfrm>
          <a:off x="4670280" y="4519440"/>
          <a:ext cx="1752840" cy="6098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22" name="Object 9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670280" y="4519440"/>
                    <a:ext cx="1752840" cy="60984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23" name="Object 10"/>
          <p:cNvGraphicFramePr/>
          <p:nvPr/>
        </p:nvGraphicFramePr>
        <p:xfrm>
          <a:off x="6553080" y="4519440"/>
          <a:ext cx="2362320" cy="6098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24" name="Object 10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6553080" y="4519440"/>
                    <a:ext cx="2362320" cy="60984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25" name="Object 11"/>
          <p:cNvGraphicFramePr/>
          <p:nvPr/>
        </p:nvGraphicFramePr>
        <p:xfrm>
          <a:off x="2909880" y="5600880"/>
          <a:ext cx="1473120" cy="60948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26" name="Object 11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2909880" y="5600880"/>
                    <a:ext cx="1473120" cy="60948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27" name="Object 12"/>
          <p:cNvGraphicFramePr/>
          <p:nvPr/>
        </p:nvGraphicFramePr>
        <p:xfrm>
          <a:off x="4662360" y="5600880"/>
          <a:ext cx="2632320" cy="63324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128" name="Object 12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4662360" y="5600880"/>
                    <a:ext cx="2632320" cy="633240"/>
                  </a:xfrm>
                  <a:prstGeom prst="rect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9" name="Text Box 4"/>
          <p:cNvSpPr/>
          <p:nvPr/>
        </p:nvSpPr>
        <p:spPr>
          <a:xfrm>
            <a:off x="0" y="0"/>
            <a:ext cx="54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Integrating Composite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4"/>
          <p:cNvSpPr/>
          <p:nvPr/>
        </p:nvSpPr>
        <p:spPr>
          <a:xfrm>
            <a:off x="0" y="981000"/>
            <a:ext cx="15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2"/>
          <p:cNvGraphicFramePr/>
          <p:nvPr/>
        </p:nvGraphicFramePr>
        <p:xfrm>
          <a:off x="2521080" y="2120760"/>
          <a:ext cx="3369960" cy="58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3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21080" y="2120760"/>
                    <a:ext cx="3369960" cy="58428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34" name="Object 3"/>
          <p:cNvGraphicFramePr/>
          <p:nvPr/>
        </p:nvGraphicFramePr>
        <p:xfrm>
          <a:off x="1042920" y="3141720"/>
          <a:ext cx="1511280" cy="457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5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42920" y="3141720"/>
                    <a:ext cx="1511280" cy="45720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36" name="Object 4"/>
          <p:cNvGraphicFramePr/>
          <p:nvPr/>
        </p:nvGraphicFramePr>
        <p:xfrm>
          <a:off x="2757600" y="3238560"/>
          <a:ext cx="1218960" cy="304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7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757600" y="3238560"/>
                    <a:ext cx="1218960" cy="30492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38" name="Object 5"/>
          <p:cNvGraphicFramePr/>
          <p:nvPr/>
        </p:nvGraphicFramePr>
        <p:xfrm>
          <a:off x="4178160" y="2982960"/>
          <a:ext cx="2248200" cy="7491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9" name="Object 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78160" y="2982960"/>
                    <a:ext cx="2248200" cy="74916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40" name="Object 6"/>
          <p:cNvGraphicFramePr/>
          <p:nvPr/>
        </p:nvGraphicFramePr>
        <p:xfrm>
          <a:off x="6629400" y="3003480"/>
          <a:ext cx="1994040" cy="6858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41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629400" y="3003480"/>
                    <a:ext cx="1994040" cy="68580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42" name="Object 7"/>
          <p:cNvGraphicFramePr/>
          <p:nvPr/>
        </p:nvGraphicFramePr>
        <p:xfrm>
          <a:off x="1017720" y="4083120"/>
          <a:ext cx="1638000" cy="4953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43" name="Object 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017720" y="4083120"/>
                    <a:ext cx="1638000" cy="49536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44" name="Object 8"/>
          <p:cNvGraphicFramePr/>
          <p:nvPr/>
        </p:nvGraphicFramePr>
        <p:xfrm>
          <a:off x="2774880" y="4186080"/>
          <a:ext cx="2057400" cy="3049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45" name="Object 8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774880" y="4186080"/>
                    <a:ext cx="2057400" cy="30492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46" name="Object 9"/>
          <p:cNvGraphicFramePr/>
          <p:nvPr/>
        </p:nvGraphicFramePr>
        <p:xfrm>
          <a:off x="4952880" y="4033800"/>
          <a:ext cx="1892520" cy="6094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47" name="Object 9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952880" y="4033800"/>
                    <a:ext cx="1892520" cy="60948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48" name="Object 10"/>
          <p:cNvGraphicFramePr/>
          <p:nvPr/>
        </p:nvGraphicFramePr>
        <p:xfrm>
          <a:off x="6964200" y="4044960"/>
          <a:ext cx="1498680" cy="6094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49" name="Object 10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6964200" y="4044960"/>
                    <a:ext cx="1498680" cy="60948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50" name="Object 11"/>
          <p:cNvGraphicFramePr/>
          <p:nvPr/>
        </p:nvGraphicFramePr>
        <p:xfrm>
          <a:off x="2957400" y="5025960"/>
          <a:ext cx="1752840" cy="60984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51" name="Object 11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2957400" y="5025960"/>
                    <a:ext cx="1752840" cy="60984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52" name="Object 12"/>
          <p:cNvGraphicFramePr/>
          <p:nvPr/>
        </p:nvGraphicFramePr>
        <p:xfrm>
          <a:off x="4791240" y="5024520"/>
          <a:ext cx="685800" cy="60948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153" name="Object 12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4791240" y="5024520"/>
                    <a:ext cx="685800" cy="60948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54" name="Object 13"/>
          <p:cNvGraphicFramePr/>
          <p:nvPr/>
        </p:nvGraphicFramePr>
        <p:xfrm>
          <a:off x="2819520" y="5962680"/>
          <a:ext cx="2774880" cy="72396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155" name="Object 13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2819520" y="5962680"/>
                    <a:ext cx="2774880" cy="72396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6" name="Text Box 4"/>
          <p:cNvSpPr/>
          <p:nvPr/>
        </p:nvSpPr>
        <p:spPr>
          <a:xfrm>
            <a:off x="0" y="0"/>
            <a:ext cx="49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Integrating Composite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4"/>
          <p:cNvSpPr/>
          <p:nvPr/>
        </p:nvSpPr>
        <p:spPr>
          <a:xfrm>
            <a:off x="1585800" y="677880"/>
            <a:ext cx="57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Integrating Trig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Object 5"/>
          <p:cNvGraphicFramePr/>
          <p:nvPr/>
        </p:nvGraphicFramePr>
        <p:xfrm>
          <a:off x="982800" y="2343240"/>
          <a:ext cx="2671560" cy="1496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0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82800" y="2343240"/>
                    <a:ext cx="2671560" cy="1496880"/>
                  </a:xfrm>
                  <a:prstGeom prst="rect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1" name="Object 4"/>
          <p:cNvGraphicFramePr/>
          <p:nvPr/>
        </p:nvGraphicFramePr>
        <p:xfrm>
          <a:off x="6070680" y="2457360"/>
          <a:ext cx="2995560" cy="1268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070680" y="2457360"/>
                    <a:ext cx="2995560" cy="1268640"/>
                  </a:xfrm>
                  <a:prstGeom prst="rect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63" name="Text Box 12"/>
          <p:cNvSpPr/>
          <p:nvPr/>
        </p:nvSpPr>
        <p:spPr>
          <a:xfrm>
            <a:off x="3651120" y="2490840"/>
            <a:ext cx="242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Integration is opposite of different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3"/>
          <p:cNvSpPr/>
          <p:nvPr/>
        </p:nvSpPr>
        <p:spPr>
          <a:xfrm>
            <a:off x="1036800" y="4691160"/>
            <a:ext cx="28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orked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Object 2"/>
          <p:cNvGraphicFramePr/>
          <p:nvPr/>
        </p:nvGraphicFramePr>
        <p:xfrm>
          <a:off x="1285920" y="5259240"/>
          <a:ext cx="2841480" cy="522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6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285920" y="5259240"/>
                    <a:ext cx="2841480" cy="52236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7" name="Object 3"/>
          <p:cNvGraphicFramePr/>
          <p:nvPr/>
        </p:nvGraphicFramePr>
        <p:xfrm>
          <a:off x="6361200" y="5294160"/>
          <a:ext cx="2192400" cy="4525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68" name="Object 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361200" y="5294160"/>
                    <a:ext cx="2192400" cy="45252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9" name="Object 3"/>
          <p:cNvGraphicFramePr/>
          <p:nvPr/>
        </p:nvGraphicFramePr>
        <p:xfrm>
          <a:off x="4384800" y="5318280"/>
          <a:ext cx="1809720" cy="404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70" name="Object 3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384800" y="5318280"/>
                    <a:ext cx="1809720" cy="40464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6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4"/>
          <p:cNvSpPr/>
          <p:nvPr/>
        </p:nvSpPr>
        <p:spPr>
          <a:xfrm>
            <a:off x="1224000" y="2162160"/>
            <a:ext cx="71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From “reversing” the chain rule we can see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Object 4"/>
          <p:cNvGraphicFramePr/>
          <p:nvPr/>
        </p:nvGraphicFramePr>
        <p:xfrm>
          <a:off x="2360520" y="2886120"/>
          <a:ext cx="4875480" cy="1471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4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0520" y="2886120"/>
                    <a:ext cx="4875480" cy="1471680"/>
                  </a:xfrm>
                  <a:prstGeom prst="rect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5" name="Text Box 8"/>
          <p:cNvSpPr/>
          <p:nvPr/>
        </p:nvSpPr>
        <p:spPr>
          <a:xfrm>
            <a:off x="946080" y="4824360"/>
            <a:ext cx="281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orked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Object 2"/>
          <p:cNvGraphicFramePr/>
          <p:nvPr/>
        </p:nvGraphicFramePr>
        <p:xfrm>
          <a:off x="2286000" y="5564160"/>
          <a:ext cx="2424240" cy="534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7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86000" y="5564160"/>
                    <a:ext cx="2424240" cy="53496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8" name="Object 3"/>
          <p:cNvGraphicFramePr/>
          <p:nvPr/>
        </p:nvGraphicFramePr>
        <p:xfrm>
          <a:off x="4844880" y="5526000"/>
          <a:ext cx="2311560" cy="609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79" name="Object 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844880" y="5526000"/>
                    <a:ext cx="2311560" cy="60984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80" name="Text Box 4"/>
          <p:cNvSpPr/>
          <p:nvPr/>
        </p:nvSpPr>
        <p:spPr>
          <a:xfrm>
            <a:off x="1585800" y="677880"/>
            <a:ext cx="57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Integrating Trig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4"/>
          <p:cNvSpPr/>
          <p:nvPr/>
        </p:nvSpPr>
        <p:spPr>
          <a:xfrm>
            <a:off x="1682640" y="515880"/>
            <a:ext cx="57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Integrating Trig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876240" y="143352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Examp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Object 2"/>
          <p:cNvGraphicFramePr/>
          <p:nvPr/>
        </p:nvGraphicFramePr>
        <p:xfrm>
          <a:off x="2076480" y="2162160"/>
          <a:ext cx="5518080" cy="649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5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76480" y="2162160"/>
                    <a:ext cx="5518080" cy="64944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86" name="Text Box 8"/>
          <p:cNvSpPr/>
          <p:nvPr/>
        </p:nvSpPr>
        <p:spPr>
          <a:xfrm>
            <a:off x="5386320" y="3322800"/>
            <a:ext cx="29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Apply the standard form (twic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Object 4"/>
          <p:cNvGraphicFramePr/>
          <p:nvPr/>
        </p:nvGraphicFramePr>
        <p:xfrm>
          <a:off x="1305000" y="4348080"/>
          <a:ext cx="4349520" cy="619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8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05000" y="4348080"/>
                    <a:ext cx="4349520" cy="61920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89" name="Object 5"/>
          <p:cNvGraphicFramePr/>
          <p:nvPr/>
        </p:nvGraphicFramePr>
        <p:xfrm>
          <a:off x="5870520" y="4357800"/>
          <a:ext cx="2502000" cy="609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90" name="Object 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870520" y="4357800"/>
                    <a:ext cx="2502000" cy="609480"/>
                  </a:xfrm>
                  <a:prstGeom prst="rect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1" name="Text Box 8"/>
          <p:cNvSpPr/>
          <p:nvPr/>
        </p:nvSpPr>
        <p:spPr>
          <a:xfrm>
            <a:off x="1857240" y="3338640"/>
            <a:ext cx="29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ak up into two easier integr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23:13Z</dcterms:created>
  <dc:creator>Caroline</dc:creator>
  <dc:description/>
  <dc:language>en-US</dc:language>
  <cp:lastModifiedBy>Caroline</cp:lastModifiedBy>
  <dcterms:modified xsi:type="dcterms:W3CDTF">2009-03-24T22:23:53Z</dcterms:modified>
  <cp:revision>47</cp:revision>
  <dc:subject/>
  <dc:title>Slide 1</dc:title>
</cp:coreProperties>
</file>